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41B-C39E-40E3-8514-A3201604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A123-170D-4BFD-B870-BB9304BF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C3D-E47B-4AE0-A9BE-BBFEAEAC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B1D-8D61-4A5D-9B92-F98B548C8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7D4E-0AEF-4B4E-A369-CF5C9674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E0B3-2E6D-4455-A620-66DB13E8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21249-9AC7-4F99-B73D-E5F74C24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00DD-7014-4F73-8EF4-D4E2E49E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B626-7D62-48BA-8D39-FBD9B09F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576B-25F8-4D52-9FDB-ECC2333C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9219-D015-425E-91A0-C50910D8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16D-7E69-4AE5-9A52-4907A198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61C2-6CA6-409A-9969-80E811A4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3E11-8F93-436A-ADF6-A24F4930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94ED-A16B-4637-8D40-8282052F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8F65-585D-4D9B-B677-D1C19A99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6071-9F4A-4939-AF46-E81D93B86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6EA-CD32-44C3-8EA8-1E4AFAF7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257E-FD57-455D-8BB4-FA7A217D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8EF-9FA6-4620-8168-81939362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A34-FD9C-4539-89A6-1BACDC14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00A-9FC7-4C40-8682-5AE9795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802-6465-4847-87FB-02E1317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615C-C189-42AC-ACA4-45B4F12D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E659-FDB1-4CDB-8AF1-CB01F48698F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F928-2740-4E54-ACAF-2B51B9D0FAB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9120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803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97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5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553080" cy="46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57992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43104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84036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7343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6960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985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1930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2:48Z</dcterms:modified>
  <cp:revision>14</cp:revision>
  <dc:subject/>
  <dc:title>Slide 1</dc:title>
</cp:coreProperties>
</file>