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165-F06D-4182-A0F3-50136E69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D53-DA4D-4194-9874-9CD31824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3018-722C-487D-AF75-DBD89AF7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C5DE-D714-4F4E-9F4D-4E241407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DAA0-5CB5-4E84-AF89-51FFFD73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A11D-8D0C-4C9F-813D-CE9A2D4D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2280-B346-48E0-B92C-F6B7943E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22F1-1409-4EF9-B6DB-AAA8BDCD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ED4D-9411-4603-8CBB-3EC9CEE7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7393-D22D-4539-B5F9-71A7CA15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E4DB-451E-4566-84FE-359960AE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69A-C1D0-46F1-813F-45BDB9BF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C815-2F8A-417F-95AC-689390A3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65A5-3946-4CCF-A614-D8D68A3D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BB51-A102-4E39-B969-AA712205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B77E-C1B8-45FB-9983-4A1C4D83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3175-4843-45BB-8CB3-0055330A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3BA-E167-454C-A789-D8CD0B0F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BEF-2AE2-49C0-B70E-59EC030F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A06-C588-444C-96CF-A85DBFAF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D33-96C1-40C6-9247-A4ED52D2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3D3-1D7E-4659-9318-8B86471D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29F-1EA8-478B-98FF-73409D23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C9B9-2054-421A-BFC0-B176CD9B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3E63-063C-402D-A2C1-A23AC69C9A29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72C3-A70E-4B9F-83B6-233F1F4D1E23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0563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27236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84036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6912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90580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62643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632772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0101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6316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0371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767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9850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840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7690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4818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9134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5:59Z</dcterms:modified>
  <cp:revision>17</cp:revision>
  <dc:subject/>
  <dc:title>Slide 1</dc:title>
</cp:coreProperties>
</file>