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9C2B-8D0E-48ED-B061-6C892B476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EF88-AEDE-4FF6-ACC9-D582CB66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68EB-1D53-4EA5-9A4F-9286A7E03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1508-9083-4F94-A2F6-1E1BD3B39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543D-1CFC-4462-8B5F-FC77D6C9D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697E-A444-42F0-AC71-4C1CC044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D5B8-43A7-4E7E-86B0-93B18AF0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D9E8-F2AD-4E35-984F-B02C4902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BED9-0564-4F5F-81E9-8672C34C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8966-3D97-49CD-A1C7-4F065B43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97BD-9B6D-4687-9E67-B35AC5FB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DA94-A310-4FCF-AAAB-1734091C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7710-AEBD-44FD-8CDF-491155A5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88DC-B8AF-4781-ACCB-0EAE998A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A3FA-036B-481A-93AA-49AEF937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CDFD-8E22-410B-A3D5-817EA1B59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FC9E-EC07-442B-B87F-033467A78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7C53-7F57-4A59-9FC7-7C1F8ACD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6BEC-5EA8-4949-8A35-F8482339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EADB-655E-4FB3-963D-B2B417F8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D7BA-4BCD-4549-B434-2404238F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0636-A76D-47D1-88B1-E5DA48D0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FE31-7ACA-4521-A362-EC583FD2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E960-AF8A-49BA-8B88-5132E789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1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f283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Verdana"/>
              </a:rPr>
              <a:t>Copyright © PracticalStuden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1142-5884-41F2-9703-C762F2739BF0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FD0E-4044-48D3-A486-6405F1F5FF97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50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ineering Questions by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7056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Ordina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Ques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45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66960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6048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626436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62472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669600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7690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65530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727236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6748560" cy="40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050920" y="1773360"/>
            <a:ext cx="6054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79640" y="2349360"/>
            <a:ext cx="590544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63640" y="2133720"/>
            <a:ext cx="6696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71294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7128000" cy="25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72723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2492280"/>
            <a:ext cx="691344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633744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691344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23:18:43Z</dcterms:created>
  <dc:creator>Eoin Mansfield</dc:creator>
  <dc:description/>
  <dc:language>en-US</dc:language>
  <cp:lastModifiedBy>Eoin Mansfield</cp:lastModifiedBy>
  <dcterms:modified xsi:type="dcterms:W3CDTF">2013-09-16T17:42:01Z</dcterms:modified>
  <cp:revision>14</cp:revision>
  <dc:subject/>
  <dc:title>Slide 1</dc:title>
</cp:coreProperties>
</file>