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07B-BA84-4DB6-867A-6F147828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76CD-1298-451E-88B1-3617474D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6CA-2930-4C10-BE16-1F60F949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DC8-A004-4FF7-BBA4-EFCAD875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00FC-00AC-46AC-A1B2-75DC6C5F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0CC1-9B86-4DFF-B8E3-FC7CD6DA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FB97-C175-4FC5-B746-FCA83658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AE98-C598-43E2-9081-0CAA2EF7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0CE5-DE2D-4969-B948-65C3B77C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A9FC-A561-4B9D-B47E-BB306ABB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8979-CEB8-4B1A-B468-B892333A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8BB4-DC13-4D08-BFA5-1E36F2E4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E638-E099-487F-893F-85F9A189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1A5B-9051-47BE-8036-CF68B7CE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5B06-8E40-4707-BF39-0231F60A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74F7-DA78-4313-9382-5EA90E35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A2C0-7932-434F-8BD3-D8E2A523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699-F794-4A2A-BE26-3072E073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C19E-F6F5-4B1F-BC15-E341B5B0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0C09-1DE6-4C65-84DC-F017BF99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917E-A09C-4EBB-A3FE-1DA2FDDB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B22-023A-4A04-A418-D5EDF94B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C3FC-C889-4065-A02A-85C5DADE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92F-11CA-4397-8E2E-A60C50AB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8C74-5BD2-4E7F-A185-DE06B4A6C137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979E-CE40-4CC8-B4E5-F49ECF0B96DA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45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73454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91380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712800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98508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6840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727236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84072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4818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50700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625788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7343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0563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727236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73454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7272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19928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727236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720108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4:23Z</dcterms:modified>
  <cp:revision>17</cp:revision>
  <dc:subject/>
  <dc:title>Slide 1</dc:title>
</cp:coreProperties>
</file>