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AED8-7910-4181-A019-858A0D7C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F17A-E5B1-48EC-BB15-C3F54223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4ABC-1775-4DAD-A2AF-64CFBF25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DD2B-7069-4701-85A6-0A864CD6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03DA-AE8B-42D4-BAF7-09032291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B2C3-64F1-46FA-A026-98E6B805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379C-C821-4963-8B2D-7C90F247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E98B-EC7B-4B41-A163-01C26FD7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8CCA2-E380-4806-A40C-179FA63A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52A4-53FE-44AC-AC9D-4D9FEE03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D385-8D63-4DD8-B78E-8D80BF6A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9BD3-5E14-47DE-9282-15610D21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A4B3-7F62-4B73-A778-D892CE83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E8DB-FD8E-4AD8-827C-8C61A283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621C-E4BB-41DF-AAE6-15A00232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E228-C990-4407-A32B-09E759B3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7D07-C4DD-4771-AB52-7EF0F3B0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8C53-C4DA-45F5-AD76-1FDC8D3C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6EAE-5FFB-4DDE-AC68-4EC5DE87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8743-A3D3-4E87-8224-EE3AB643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73C3-6823-4439-A261-46E6E8D4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E588-2A40-4F76-BB62-1BDACBDB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9F2A-7F5A-4850-B462-FC57ADDB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54F3-3517-43B0-A6B9-6422C3F5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A0B8-092F-4D2B-A22C-04E04CEDC8C0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D427-54D8-4A70-8102-84EF8A863379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Iron &amp; St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76728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62472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712800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532800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62472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90400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2492280"/>
            <a:ext cx="6553440" cy="17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54508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8000" y="2708280"/>
            <a:ext cx="60487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54364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52563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575964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6050160" cy="24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8196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627280" y="2637000"/>
            <a:ext cx="5184720" cy="167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46400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688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496872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8000" y="2852640"/>
            <a:ext cx="626436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63640" y="2565360"/>
            <a:ext cx="633744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64818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82436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24000" y="2565360"/>
            <a:ext cx="583272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4375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532908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5943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979640" y="2637000"/>
            <a:ext cx="561672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18472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56898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340000" y="1706400"/>
            <a:ext cx="509112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484360" y="1798560"/>
            <a:ext cx="486576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60487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63640" y="2416320"/>
            <a:ext cx="58626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74660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64213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835280" y="2060640"/>
            <a:ext cx="619272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6978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619272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6247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3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612144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30:04Z</dcterms:modified>
  <cp:revision>12</cp:revision>
  <dc:subject/>
  <dc:title>Slide 1</dc:title>
</cp:coreProperties>
</file>