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F73-94B6-4AE1-8D07-E8496AA9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A836-FF2F-4DF8-A336-8EDE90F47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111-226E-4B43-B295-BBCC121D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635-75FC-4449-AF69-63A309EE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7CEF-E350-4848-AB45-1E2BC63C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54A-EE11-404D-9B40-8557835A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251A-9490-4767-92B4-3E3D9F2D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DD8B-51EA-4544-A8C8-90874386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BF0B-623F-442C-83A5-37B9A751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C46E-6DDA-4E42-8782-CD5AE8EE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4CC0-7223-42F7-B63E-05ABBF9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9FF-210B-4164-9E2C-6E848285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30AA-812F-4BF4-951C-82BDBB48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8080-E71D-41F4-B502-02962451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68ED-52B1-4860-A49C-F7E352AD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1480-E310-451E-BE9D-0BD27C05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841-2EA2-4A8C-A4FD-3872BFFA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2C0-29CE-461F-8443-700F50F5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9C8-58E0-427E-B23E-EE1C5062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4C7-69DF-45B8-9093-D29F1700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3AF-DB15-4497-BEE0-9881DEB4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5F7D-A18C-4287-91EA-A0C03B12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B117-E512-4BF8-A1A0-23B6929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591-1288-4BE7-92C0-A784551F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DB55-7405-45D4-A227-73FB026C6042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6050-387A-4178-951A-EA09A7B05120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ectio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hor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50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2658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551640" cy="48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47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12144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5454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9058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905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60483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95640" y="1628640"/>
            <a:ext cx="56894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436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1214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56000" y="1557360"/>
            <a:ext cx="475272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53992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0920" y="1557360"/>
            <a:ext cx="597708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83416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473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57610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616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547236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76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5436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6193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56236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71500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1557360"/>
            <a:ext cx="63370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70567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76728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76108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1 Section A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62472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1 Section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7690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14:07Z</dcterms:modified>
  <cp:revision>11</cp:revision>
  <dc:subject/>
  <dc:title>Slide 1</dc:title>
</cp:coreProperties>
</file>