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7A7A-603F-4466-A150-32898671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E94-5A3F-4EF7-9E1D-372F1F78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F5E-845B-426B-B30F-ACF841E3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3897-7C30-4163-A8F4-F3D2D9A3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AF2B-E9C7-45C8-B9B8-E1115FA4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99BC-6A8E-461C-AF6C-AB7F717B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D599-4741-4776-B1EB-21B1CE2F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91B7-0733-4AE3-A3D9-E7660E17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E687-8372-49A7-B34D-50FDFC2F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E9AA-CB80-4B07-BE14-F7590130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00A8-B59D-4693-8DEF-FFA9607F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FDA0-3150-4928-B75B-AC661BFB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A18B-A4A4-4A48-8A5A-1CA3A4BE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069D-7726-45BE-937B-9D910A67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78C6-01C2-4426-96B0-393A3949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5F8C-64E5-4E5E-979E-3C874EEF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918B-53E7-44D1-88B3-82C1CCB0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F7E-3F6A-4689-B4C9-B31D26FF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29AE-881D-41B8-9E8E-76FFE991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A84-D6BB-44D2-929F-7E95EF8C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5505-7A45-4094-9443-67D22C02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EBC-8D74-4D8C-8096-302FA97D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BA8-A4C1-4196-B083-0BCCBA3E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11F6-61B4-4789-AF2E-1E8A8EB7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635C-B39F-4752-8F8D-C84AE1A9CEE7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AA11-6C82-45BE-A4A6-52828511F590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hor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3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9134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40872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8508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7676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272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26436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98508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1700280"/>
            <a:ext cx="720108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70200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32000" y="1940040"/>
            <a:ext cx="72705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1 Sectio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769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481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1280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84036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727236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2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472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2643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0:31Z</dcterms:modified>
  <cp:revision>11</cp:revision>
  <dc:subject/>
  <dc:title>Slide 1</dc:title>
</cp:coreProperties>
</file>