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E9A-881B-45C1-8B95-FB960AE8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537-0778-41BA-845C-BA117645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F8C-9637-4B95-8A84-6FCD3DB1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B21-519C-4237-8271-EE4F9D3A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4179-A430-45EB-8383-8ADA4913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4666-ED5B-4015-9A72-B0692CC2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8A90-8C6C-4AF7-832D-ADD5DF54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73FA-CA66-4BE9-B7D2-1107FFD2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8C3C-0C71-422B-B240-A66F9C01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0E0E-C8BB-491A-A64C-8F4C364E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F5DF-6682-40AA-B6B5-94B26E20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3B3-9EE4-4501-B2CF-DDEEECD5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93C9-385D-4292-93EC-77520827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B19F-4B58-4AF2-A332-1DDDFCFA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42B7-4C1C-4539-AECB-FE02736F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85AB-4945-4AAE-98F2-22687865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1ADC-B0DC-4C1C-9128-C9868142B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B6A-344E-41D8-8FB4-AB7669CF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ADF-7D64-4874-9816-F8CBACB6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82B-48E6-40A4-893C-3059EBBD6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9BC-6BF3-47FB-8563-53E098B8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D12-FE86-4292-A91E-F464F9C7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4F9-4871-476C-8B8D-CD000054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655-F4F6-4D7E-90B5-332F6AE7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2DB-0FB0-4B2F-803E-E518059698DE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1A64-2ED2-49A2-B911-29F37EB527DD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Poly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2643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26436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4800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60501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5759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5436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7610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90544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759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61672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55308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904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62658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6120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688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257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400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847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2637000"/>
            <a:ext cx="5327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3374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5832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48036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24000" y="1908000"/>
            <a:ext cx="535464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40000" y="1773360"/>
            <a:ext cx="511020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645948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508644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7313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12800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480000" cy="41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6247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832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6985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6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97708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6:08Z</dcterms:modified>
  <cp:revision>16</cp:revision>
  <dc:subject/>
  <dc:title>Slide 1</dc:title>
</cp:coreProperties>
</file>