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640-36B8-4C0A-B484-C86818F5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322-524D-4199-A6B2-B882F440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8DD-43EB-476A-9A28-46556248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A22-58B1-4504-B3F8-59A936D7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0EDC-A045-456F-8ED2-2E2ED5BF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5E44-92EA-4F66-B662-77A3250D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5CE9-7DD1-4CEA-A74E-D477461C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5D69-DFEC-4671-841A-BEFCEA9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6C31-A29A-4EAE-9E14-513FD1EB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6EE83-805E-4981-A64A-A7CABC8F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A5EE-12CE-4A18-B548-6A7774C3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426-A3A6-4558-A77B-F7373461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AB92-B2D7-45D8-A29E-A1A06E7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4514-7EDB-45C9-BDD2-C4AA5CE9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B80D-3878-4B34-8E52-156E6554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AB5B-A2F9-4092-920D-7D5F0C68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6F15-3FA7-4148-AFC2-8DD8F763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D12-3EE2-4B02-955E-C366E33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AC3F-A88E-478C-B832-9170C070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F94-C938-499F-AB86-38100F9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F32-E8BD-4A36-AB3A-4CA7CC19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798C-FE01-460C-9563-A60727F6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EA1-4010-4F24-A46F-FA08305F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261-CA22-4540-958D-2DC4D169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945-3A56-4440-B31B-0348A107A2E6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53D4-507B-4BC0-A6FA-221571B92207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aterials Testing &amp; N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263680" y="2311560"/>
            <a:ext cx="5591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78080" y="2263680"/>
            <a:ext cx="5562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73520" y="2268360"/>
            <a:ext cx="4371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62360" y="1844640"/>
            <a:ext cx="4395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92520" y="2401920"/>
            <a:ext cx="4533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59160" y="2506680"/>
            <a:ext cx="52005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963880" y="2440080"/>
            <a:ext cx="41911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78160" y="2111400"/>
            <a:ext cx="3562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54360" y="1920960"/>
            <a:ext cx="46101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82920" y="2073240"/>
            <a:ext cx="515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54200" y="2082960"/>
            <a:ext cx="5010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9400" y="3316320"/>
            <a:ext cx="4419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471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639880" y="3463920"/>
            <a:ext cx="48387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44640" y="1973160"/>
            <a:ext cx="46292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16120" y="3021120"/>
            <a:ext cx="4886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13160" y="1844640"/>
            <a:ext cx="3292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82960" y="3511440"/>
            <a:ext cx="41529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68640" y="1844640"/>
            <a:ext cx="578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0200" y="3425760"/>
            <a:ext cx="403848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2643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478240" y="2035080"/>
            <a:ext cx="51624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61672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50920" y="2193840"/>
            <a:ext cx="5256360" cy="29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2139840"/>
            <a:ext cx="62150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92360" y="2708280"/>
            <a:ext cx="650700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6107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50920" y="2511360"/>
            <a:ext cx="56563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3388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692440" y="3106800"/>
            <a:ext cx="47340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11320" y="2344680"/>
            <a:ext cx="60958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82960" y="2544840"/>
            <a:ext cx="5952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16240" y="2449440"/>
            <a:ext cx="54864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2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16240" y="2373480"/>
            <a:ext cx="5486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9360" y="2492280"/>
            <a:ext cx="5419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28:20Z</dcterms:modified>
  <cp:revision>14</cp:revision>
  <dc:subject/>
  <dc:title>Slide 1</dc:title>
</cp:coreProperties>
</file>