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B949-C5F4-475E-81C2-D8582118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9379-BC8B-42FC-BB3E-8B52B55E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509E-0EAC-4714-B9BE-AFBA81F4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7EA7-56F9-467B-8B9E-2F6533FE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F55B-35ED-4BC6-9B51-12D3898B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9EED-6B01-4B8B-A7C5-4EF84093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532E-C2EF-4232-AEF8-A8BC2B87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FEDD-E6EB-4D7A-B39E-36DCAA36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F162-1B7C-452A-AB65-A392C1B4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2E33-C656-480A-889A-7BAE97FE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8679-B6D1-45F6-9B91-DB2C6303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2A7C-432F-40FE-BD4A-88EBED2D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A0D2-5786-43C0-8A0B-19B76E70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97E3-1759-443B-89A3-B5103376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7FF1-F383-405D-B89C-54F53ED3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C5C2-C227-4345-AE28-6E670B84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A676-C45F-4040-A3E2-72C113100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D6A9-3E9A-4C9C-82B2-ABA04F2D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6A8A-56DB-47B8-986D-B0870C22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EFD8-A8F3-482F-A10B-5C67ABCD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D0A3-3C9A-461D-BC49-E9EF7422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E674-54FA-4021-8997-997ECC70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24C1-970E-4DB8-8CA0-422331B3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052A-1F66-4932-ADF9-12385FE7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1689-1CE1-48CD-B476-3E6A36E4F498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F560-998B-4618-A816-5C8D8439E858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Thermal Equilibrium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50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40072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47380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84036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47236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050920" y="2997360"/>
            <a:ext cx="590580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7610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50403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48546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583236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40872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55164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35280" y="2997360"/>
            <a:ext cx="604836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84036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411280" y="2565360"/>
            <a:ext cx="468180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64087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0920" y="2708280"/>
            <a:ext cx="583416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4681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627280" y="2781360"/>
            <a:ext cx="381636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69636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904000" cy="42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672804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60498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403280" y="2206800"/>
            <a:ext cx="669456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68360" y="2421000"/>
            <a:ext cx="503748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619280" y="2924280"/>
            <a:ext cx="65134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68360" y="2230560"/>
            <a:ext cx="522468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908000" y="2349360"/>
            <a:ext cx="5921640" cy="28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705636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662472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64800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40872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4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08000" y="2492280"/>
            <a:ext cx="59040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75964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32:13Z</dcterms:modified>
  <cp:revision>16</cp:revision>
  <dc:subject/>
  <dc:title>Slide 1</dc:title>
</cp:coreProperties>
</file>