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2D8-1F5D-4E13-B20F-93358A17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46E-9421-44F6-A60B-3F83FACB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7653-8002-457D-BB28-91414CD7E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C53-5007-428E-9450-01C6C6E2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532B-79B2-4B6F-B1D7-6B15C6D8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3706-ECE9-4B69-AC7C-EB673F1C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68AB-298E-487E-AED6-EDFA4C62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FC0E-6EA7-4F5F-9E12-656F196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8C6-C783-4C7F-A008-EFC925F1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1BFE-395C-472C-8C00-C40B66C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4CB6-4F96-44ED-B643-AA36964A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48A6-980D-4DC0-AA25-7FAFBC64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2FFD-53B1-4E99-B44F-F8A149A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E2B5-661A-4DEA-97A4-F9221166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6627-2878-4794-B4B4-ED6E7735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23CF-898B-47A2-96EB-E2254D5F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0D05-222B-4504-82E0-14DE3B02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0696-3D3E-4086-B5D1-12F04815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0C5-F5A0-4CE6-834C-6E9F1D7A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D7D-581C-4868-8857-3D917E58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9C6D-042D-43F1-BA6B-AFB5314C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B5A5-D804-4089-BA45-277E342D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423-A3D3-4B1F-B3D3-21EEAEF4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8D6-400E-4C50-9EEE-C220C871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188E-AE6D-4D9E-9EBC-DC989FA792AD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D3D-B48B-41EF-ACA3-D8DE08CD0CAB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3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840360" cy="37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9832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98508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76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72010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7852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84532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4087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91200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6769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54508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5436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1927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1:18Z</dcterms:modified>
  <cp:revision>11</cp:revision>
  <dc:subject/>
  <dc:title>Slide 1</dc:title>
</cp:coreProperties>
</file>