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E08-07E6-45FD-94A3-2C8E1FD1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2188-CC3B-435A-B4B2-D720C93C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11E4-18C9-4848-B4FC-8F5E9C6B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A85-7C8F-4C9E-91C7-6350C7B6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BC69-68B0-416A-B963-284B3F15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7ED-2899-4436-A27D-C115953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4000-A3CE-4191-A5C6-64D7FD3B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CCFF-7214-4C1D-8793-A662CE5D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0073-584C-40A7-88E8-E7F14574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BBE7-3EEE-4158-BDA5-AF602E32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6BAF-8A26-4985-A121-B97C8525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889E-9F2D-41D5-9A63-7EB00420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F56B-2656-4D1E-81FB-A86FFC28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55F3-68D9-4DF8-BA0E-5C98B717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ED6E-F7CD-4488-9AE6-2B02A158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6C77-E9C2-4F89-B40A-FCAAF3A2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954C-44F0-48EE-AE34-109BE1E3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BE6-8841-44EC-A60F-07D2CC89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890-24EC-4CFA-B44B-D8308D06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DE7-6932-4CCE-BC1E-FC4F5DD3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C65B-76B4-4D98-9F65-0D37FFF1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456E-19DF-481C-9387-423E78A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F355-2000-42BE-94C4-91C1C2C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0F12-C6F8-4F48-9D8E-3980B56C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CC86-4921-4645-A9BF-2E6946FCB98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5C5-C31D-43BC-8B6C-083F9AB6A3B4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W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71280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7672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9850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40872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6480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761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619308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884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400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3294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66974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54720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4544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6337080" cy="26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04836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908000" y="2133720"/>
            <a:ext cx="58327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608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276640"/>
            <a:ext cx="56880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5324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76108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335640" cy="34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5516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95944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6865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050920" y="2122560"/>
            <a:ext cx="55612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7625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763640" y="2708280"/>
            <a:ext cx="61405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936800"/>
            <a:ext cx="550224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9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98508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5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98328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8407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769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4:17Z</dcterms:modified>
  <cp:revision>15</cp:revision>
  <dc:subject/>
  <dc:title>Slide 1</dc:title>
</cp:coreProperties>
</file>