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870-18B5-466D-98E6-BD5CC750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F1BE-83CB-4EB2-84A5-0CC08C51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1B92-0CDD-4097-8188-C1012404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CC50-8F8F-4C04-937C-0BCD13EC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3C5B-149C-432D-90B0-8FD7EA8D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B198-07A4-488F-B7AA-6B42EB1B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378F-DEA2-4DB7-BF91-79C73EDC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76DB-4B2B-444E-BDDA-A119F099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020B-41A7-4B58-85C9-6E173859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E412-E907-475B-AC28-A7C22908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9AFE-AB5E-4B5D-B9F4-264FD3A3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9F4-BD02-45B0-91C6-A4CD9428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E7C2-23C7-4260-A143-B11C4218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AECB-FB5C-48DA-9660-8F7C75DC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4134-9097-43F3-8654-50F23BDB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139F-B0B7-4239-88C2-1A826641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D35A-7BA6-412A-BCDC-98E866F4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081-73D0-4E8B-810E-67FC3FD9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1DB-5CE9-42BA-8050-C6991B10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D107-7B09-4B69-804C-36C6AEEC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6070-4EC3-4E6B-B996-EDE820B4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AA1A-152C-4E21-802E-F6075058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4736-5E9E-443F-B555-81B7CDA0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31C-33A9-478E-A69B-859E4C66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0678-86B1-4E71-9870-399ED46D8971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FCDB-07DD-4F64-ADED-039F978D66DC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Mechanisms &amp; Elec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6247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83272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6048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65530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64803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33564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4087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604836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68980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976720" cy="37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532944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18508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25636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7380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55436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55436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90544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61672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9676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5473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738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25636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7380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32764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00720" cy="46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4087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340000" y="1792440"/>
            <a:ext cx="49276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92360" y="2050920"/>
            <a:ext cx="6183360" cy="42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8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557532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5023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327640" cy="47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4007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9770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120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84036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8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9850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39:46Z</dcterms:modified>
  <cp:revision>18</cp:revision>
  <dc:subject/>
  <dc:title>Slide 1</dc:title>
</cp:coreProperties>
</file>