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CFE2-34ED-4BE2-BC83-7CFF165BA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BD80-E144-4B7F-A064-EA0A451D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E4C7-DF94-49B2-BF09-DF8D75F9C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44DC-9781-4DB4-99CF-68DAE3FDD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79DCC-2975-4E17-A379-2B60CD427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3E3FA-028F-41C5-AA2A-029194AF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9527-E82E-498C-9A2E-2438FA5B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9FAE-1CE7-4423-8E0C-29B6A028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11117-B3A2-4005-B9A5-44E0469F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E1ABE-36B4-4D88-BEC9-2C8AA8C0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DDD2A-C4DB-4B1A-9395-4B0E7CAD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705F-FAA9-4DA1-944A-A05BE5EA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F0AE-A3B1-4900-9E7D-3028D688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C923B-2881-4147-A75A-ADCFBDD9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03774-3009-4C89-B088-533CD453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5D2A5-B6A3-4B90-BBF6-C7E8DD3F2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7612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48960" y="184464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0328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7612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48960" y="399420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2854-9D92-4FAC-ADE0-E3163E5D6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D495-F566-4D4B-B49F-EED8C69F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CC6F-3F86-4490-B790-36E53143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F3C5-9BCC-4BAF-A1C5-32F6120A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6F18-8FC1-48A9-9E53-DCA5F1F4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60E6-DF5F-4CD4-8E7B-6B3CDBFF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1240" y="399420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F26E-CAE3-4A6C-96DE-EA3DF79D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240" y="1844640"/>
            <a:ext cx="3569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03280" y="3994200"/>
            <a:ext cx="73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8A0B-D784-4E11-AA76-FD9FB179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1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df283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df283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000000"/>
                </a:solidFill>
                <a:latin typeface="Verdana"/>
              </a:rPr>
              <a:t>Copyright © PracticalStuden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9A63-CF39-4C71-AB96-DD53A95C1ADB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2501-86D7-4F5C-B4AF-7B1D0182079D}" type="slidenum">
              <a:rPr b="0" lang="en-IE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-3236760" y="0"/>
            <a:ext cx="11924640" cy="3809880"/>
            <a:chOff x="-3236760" y="0"/>
            <a:chExt cx="11924640" cy="3809880"/>
          </a:xfrm>
        </p:grpSpPr>
        <p:sp>
          <p:nvSpPr>
            <p:cNvPr id="50" name=""/>
            <p:cNvSpPr/>
            <p:nvPr/>
          </p:nvSpPr>
          <p:spPr>
            <a:xfrm>
              <a:off x="-3236760" y="685800"/>
              <a:ext cx="41144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2423880" y="0"/>
              <a:ext cx="30934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df283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73040" y="1523880"/>
              <a:ext cx="731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ngineering Questions by 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1844640"/>
            <a:ext cx="7056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Ordina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Question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45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6193080" cy="48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4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76944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5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337440" cy="48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6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69636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7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62472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8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624720" cy="46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9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72010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727236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0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712800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7056360" cy="40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6 Question 7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6769080" cy="46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1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712944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547640" y="2205000"/>
            <a:ext cx="683928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2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124000" y="1700280"/>
            <a:ext cx="561024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332000" y="2492280"/>
            <a:ext cx="714204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13 Question 7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484360" y="1773360"/>
            <a:ext cx="4770360" cy="44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7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763640" y="1989000"/>
            <a:ext cx="6912000" cy="28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8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7056360" cy="41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1999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547640" y="1628640"/>
            <a:ext cx="691200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0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662472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1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92360" y="2133720"/>
            <a:ext cx="669600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2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6912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2003 Question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050920" y="2276640"/>
            <a:ext cx="576108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23:18:43Z</dcterms:created>
  <dc:creator>Eoin Mansfield</dc:creator>
  <dc:description/>
  <dc:language>en-US</dc:language>
  <cp:lastModifiedBy>Eoin Mansfield</cp:lastModifiedBy>
  <dcterms:modified xsi:type="dcterms:W3CDTF">2013-09-16T17:47:35Z</dcterms:modified>
  <cp:revision>18</cp:revision>
  <dc:subject/>
  <dc:title>Slide 1</dc:title>
</cp:coreProperties>
</file>