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6ABA-0DD7-49B0-92DB-762C7790A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FA1F-9671-440B-A5D3-1E6A23102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72B1-64D2-4998-A8C7-7FF5975F0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7612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4896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0328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7612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4896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8443-80CA-4542-8C34-CAB8E14FE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D7B9F-C575-4035-A35F-A104D2CF6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DD784-738B-4A6B-885E-E4E9C0DDC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E35EB-FA99-4114-9F69-C6F3D8F0E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8118F-7293-45C0-9887-09B66A64C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EFD86-2538-433D-9AA5-F21646EAA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FCC9A-CB8D-4508-BDB3-25467D63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10588-CC0A-489D-8C4A-04FD5196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8B24-EF35-4E4D-9532-C402ECDF4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3440D-E27E-4F3F-A1EB-C24D9378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84F3C-9A1C-4577-AC5E-A89E634D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2D6AF-49BD-460F-AAE6-94E1B7E09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123E9-4936-4290-A402-38F5E79C6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7612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4896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0328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7612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4896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90345-609D-4A75-A0C0-1C0B08F49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225C-A7D6-4754-B3BE-D930821F0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A432-5D5C-4DAE-9D63-B3A644EB9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195B-8928-46F1-88B9-B34A0F0BA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F0A3-24DE-44D5-ACE3-CBA44E011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658D-468C-4864-BDFF-9E853DA8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1311-7DC4-4FCB-9D22-9D5DC1D4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1884-4A3E-49DB-A53D-09F50896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6760" y="0"/>
            <a:ext cx="11924640" cy="3809880"/>
            <a:chOff x="-3236760" y="0"/>
            <a:chExt cx="11924640" cy="3809880"/>
          </a:xfrm>
        </p:grpSpPr>
        <p:sp>
          <p:nvSpPr>
            <p:cNvPr id="1" name=""/>
            <p:cNvSpPr/>
            <p:nvPr/>
          </p:nvSpPr>
          <p:spPr>
            <a:xfrm>
              <a:off x="-3236760" y="685800"/>
              <a:ext cx="41144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3880" y="0"/>
              <a:ext cx="30934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df28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3040" y="1523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df28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df283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df283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800" spc="-1" strike="noStrike">
                <a:solidFill>
                  <a:srgbClr val="000000"/>
                </a:solidFill>
                <a:latin typeface="Verdana"/>
              </a:rPr>
              <a:t>Copyright © PracticalStudent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D7519-11D9-4E84-8519-72FB7002B45B}" type="slidenum">
              <a:rPr b="0" lang="en-I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BB512-A7C3-4BED-9FF8-06547325D356}" type="slidenum">
              <a:rPr b="0" lang="en-I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-3236760" y="0"/>
            <a:ext cx="11924640" cy="3809880"/>
            <a:chOff x="-3236760" y="0"/>
            <a:chExt cx="11924640" cy="3809880"/>
          </a:xfrm>
        </p:grpSpPr>
        <p:sp>
          <p:nvSpPr>
            <p:cNvPr id="50" name=""/>
            <p:cNvSpPr/>
            <p:nvPr/>
          </p:nvSpPr>
          <p:spPr>
            <a:xfrm>
              <a:off x="-3236760" y="685800"/>
              <a:ext cx="41144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-2423880" y="0"/>
              <a:ext cx="30934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df28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73040" y="1523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Engineering Questions by T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76360" y="1844640"/>
            <a:ext cx="7056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Ordina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Question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45 M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3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908000" y="1989000"/>
            <a:ext cx="6120000" cy="36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3 Question 4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91200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4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619280" y="1844640"/>
            <a:ext cx="633744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5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619280" y="1844640"/>
            <a:ext cx="6624720" cy="41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6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476360" y="1773360"/>
            <a:ext cx="6912000" cy="44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7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47640" y="1773360"/>
            <a:ext cx="6985080" cy="38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8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720072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9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476360" y="1773360"/>
            <a:ext cx="712800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0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403280" y="1844640"/>
            <a:ext cx="720108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1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6265800" cy="46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6 Question 4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403280" y="2349360"/>
            <a:ext cx="720108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2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63640" y="1844640"/>
            <a:ext cx="629136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3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124000" y="1916280"/>
            <a:ext cx="5872320" cy="43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7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763640" y="1844640"/>
            <a:ext cx="6048360" cy="41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8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7128000" cy="41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8 Question 4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03280" y="2060640"/>
            <a:ext cx="720108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9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403280" y="1700280"/>
            <a:ext cx="712944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0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705636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1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47640" y="1773360"/>
            <a:ext cx="662472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2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403280" y="1844640"/>
            <a:ext cx="705636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23:18:43Z</dcterms:created>
  <dc:creator>Eoin Mansfield</dc:creator>
  <dc:description/>
  <dc:language>en-US</dc:language>
  <cp:lastModifiedBy>Eoin Mansfield</cp:lastModifiedBy>
  <dcterms:modified xsi:type="dcterms:W3CDTF">2013-09-16T17:43:31Z</dcterms:modified>
  <cp:revision>15</cp:revision>
  <dc:subject/>
  <dc:title>Slide 1</dc:title>
</cp:coreProperties>
</file>