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F405A-86BC-4B46-A01D-01A4C9834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731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403280" y="3994200"/>
            <a:ext cx="731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F4B08-9210-457C-919E-214703FA7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403280" y="399420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51240" y="399420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CD18E-4751-4710-82ED-C1671C75D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76120" y="184464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48960" y="184464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403280" y="399420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76120" y="399420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48960" y="399420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FE101-C7F2-4F37-AB89-082C994E2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BC67E-5C19-40FD-A52D-4F02B8D99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403280" y="184464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4CC7E-1048-45CD-940D-87541C652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6315C-AF10-45E3-AB4B-CFF68EBEA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142DE-EAF1-466B-8B89-1ED5EFA13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AD041-E511-43F2-BFB6-E230396EB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720DB-D1F2-4FA3-BE7A-D8775231E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403280" y="399420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73E53-A355-463E-877F-E26FFDFEB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403280" y="184464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B4C4A-86B2-4F10-996F-7E46278AE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151240" y="399420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3CC8A-7842-4C1D-BD23-4BDEEB8E7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403280" y="3994200"/>
            <a:ext cx="731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6715F-A072-4C20-8C01-6747A50FB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731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403280" y="3994200"/>
            <a:ext cx="731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99E9A-AA38-4CCF-9114-7B6774792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403280" y="399420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151240" y="399420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4F2C1-03C2-4E61-9C15-0B66C3A86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76120" y="184464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348960" y="184464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403280" y="399420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876120" y="399420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348960" y="399420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19470-9898-4699-A328-7129DDF3B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15F63-2097-4B5F-9AE3-420FCF11D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E76BE-1BCC-44F0-9CB0-5C60E13A1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1C78C-761D-40DB-86BB-E3F6BA6FE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411D0-4770-4C67-9017-5D11D9C4D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403280" y="399420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5F19B-B9BE-43F1-BE70-362AC8E0B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51240" y="399420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6D89A-454F-4730-8957-759E2373B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403280" y="3994200"/>
            <a:ext cx="731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F9874-091E-4381-84D1-9DBD8B985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6760" y="0"/>
            <a:ext cx="11924640" cy="3809880"/>
            <a:chOff x="-3236760" y="0"/>
            <a:chExt cx="11924640" cy="3809880"/>
          </a:xfrm>
        </p:grpSpPr>
        <p:sp>
          <p:nvSpPr>
            <p:cNvPr id="1" name=""/>
            <p:cNvSpPr/>
            <p:nvPr/>
          </p:nvSpPr>
          <p:spPr>
            <a:xfrm>
              <a:off x="-3236760" y="685800"/>
              <a:ext cx="411444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3880" y="0"/>
              <a:ext cx="309348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df283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3040" y="1523880"/>
              <a:ext cx="7314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403280" y="184464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df283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df283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df283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8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800" spc="-1" strike="noStrike">
                <a:solidFill>
                  <a:srgbClr val="000000"/>
                </a:solidFill>
                <a:latin typeface="Verdana"/>
              </a:rPr>
              <a:t>Copyright © PracticalStudent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6882D-3466-4E4D-875F-D3EC71B68A88}" type="slidenum">
              <a:rPr b="0" lang="en-IE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17BA1-18EB-45D6-9436-84912B24C8CF}" type="slidenum">
              <a:rPr b="0" lang="en-IE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-3236760" y="0"/>
            <a:ext cx="11924640" cy="3809880"/>
            <a:chOff x="-3236760" y="0"/>
            <a:chExt cx="11924640" cy="3809880"/>
          </a:xfrm>
        </p:grpSpPr>
        <p:sp>
          <p:nvSpPr>
            <p:cNvPr id="50" name=""/>
            <p:cNvSpPr/>
            <p:nvPr/>
          </p:nvSpPr>
          <p:spPr>
            <a:xfrm>
              <a:off x="-3236760" y="685800"/>
              <a:ext cx="411444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-2423880" y="0"/>
              <a:ext cx="309348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df283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373040" y="1523880"/>
              <a:ext cx="7314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Engineering Questions by Topi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476360" y="1844640"/>
            <a:ext cx="705636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Verdana"/>
              </a:rPr>
              <a:t>Higher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Verdana"/>
              </a:rPr>
              <a:t>Question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Verdana"/>
              </a:rPr>
              <a:t>Section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Verdana"/>
              </a:rPr>
              <a:t>Special Top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Verdana"/>
              </a:rPr>
              <a:t>50 Ma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0 Question 1 Section B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835280" y="1628640"/>
            <a:ext cx="5473440" cy="477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0 Question 1 Section B cont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547640" y="1773360"/>
            <a:ext cx="6696360" cy="34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1 Question 1 Section B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547640" y="1628640"/>
            <a:ext cx="6840720" cy="414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1 Question 1 Section B cont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835280" y="1557360"/>
            <a:ext cx="5473440" cy="490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2 Question 1 Section B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763640" y="1700280"/>
            <a:ext cx="6193080" cy="41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2 Question 1 Section B cont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692360" y="1628640"/>
            <a:ext cx="6551640" cy="42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3 Question 1 Section B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763640" y="1628640"/>
            <a:ext cx="5977080" cy="42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3 Question 1 Section B cont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619280" y="2637000"/>
            <a:ext cx="6624720" cy="17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4 Question 1 Section B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195640" y="1700280"/>
            <a:ext cx="4752720" cy="441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4 Question 1 Section B cont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547640" y="1844640"/>
            <a:ext cx="6337440" cy="35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1996 Question 1 Section B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547640" y="1700280"/>
            <a:ext cx="6985080" cy="391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5 Question 1 Section B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195640" y="1700280"/>
            <a:ext cx="4897440" cy="45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5 Question 1 Section B cont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195640" y="1700280"/>
            <a:ext cx="5400720" cy="42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6 Question 1 Section B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979640" y="1628640"/>
            <a:ext cx="5761080" cy="449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6 Question 1 Section B cont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050920" y="1628640"/>
            <a:ext cx="5329440" cy="44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7 Question 1 Section B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692360" y="1700280"/>
            <a:ext cx="6264360" cy="38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7 Question 1 Section B cont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619280" y="1628640"/>
            <a:ext cx="6624720" cy="428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8 Question 1 Section B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411280" y="1557360"/>
            <a:ext cx="496908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8 Question 1 Section B cont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1979640" y="2421000"/>
            <a:ext cx="5616720" cy="238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9 Question 1 Section B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627280" y="1557360"/>
            <a:ext cx="436248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9 Question 1 Section B cont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2195640" y="1844640"/>
            <a:ext cx="5616360" cy="37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1996 Question 1 Section B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2360" y="1773360"/>
            <a:ext cx="6840360" cy="36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10 Question 1 Section B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2050920" y="1916280"/>
            <a:ext cx="5329440" cy="35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10 Question 1 Section B cont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2124000" y="1628640"/>
            <a:ext cx="5256360" cy="473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11 Question 1 Section 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692360" y="1628640"/>
            <a:ext cx="6335640" cy="463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11 Question 1 Section B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1835280" y="1628640"/>
            <a:ext cx="5905440" cy="44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12 Question 1 Section 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908000" y="1844640"/>
            <a:ext cx="558036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12 Question 1 Section B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2124000" y="1666800"/>
            <a:ext cx="5473800" cy="41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13 Question 1 Section B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2484360" y="1773360"/>
            <a:ext cx="4727520" cy="43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13 Question 1 Section B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2124000" y="1763640"/>
            <a:ext cx="5531040" cy="40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Topic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1547640" y="1628640"/>
          <a:ext cx="6840720" cy="4753080"/>
        </p:xfrm>
        <a:graphic>
          <a:graphicData uri="http://schemas.openxmlformats.org/drawingml/2006/table">
            <a:tbl>
              <a:tblPr/>
              <a:tblGrid>
                <a:gridCol w="3421080"/>
                <a:gridCol w="3419640"/>
              </a:tblGrid>
              <a:tr h="25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ea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f283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opi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f2836"/>
                    </a:solidFill>
                  </a:tcPr>
                </a:tc>
              </a:tr>
              <a:tr h="250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99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ansmission System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9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99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neumatic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99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ototype Desig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9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lectromagnetic Switche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9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neumatic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0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rburetto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0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epper Moto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0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mpresso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0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entrifugal Pump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9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0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ind Generato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0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neumatic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0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urbine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9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0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hotovoltic Cel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0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ybrid Engin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cceleromete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cineratio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aser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irling Engine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1997 Question 1 Section B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619280" y="1557360"/>
            <a:ext cx="612144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1997 Question 1 Section B cont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76360" y="1628640"/>
            <a:ext cx="7056360" cy="428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1998 Question 1 Section B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835280" y="1773360"/>
            <a:ext cx="6049800" cy="38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1998 Question 1 Section B cont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547640" y="1628640"/>
            <a:ext cx="5977080" cy="480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1999 Question 1 Section B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692360" y="1628640"/>
            <a:ext cx="684036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1999 Question 1 Section B cont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835280" y="1557360"/>
            <a:ext cx="5257800" cy="476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9T23:18:43Z</dcterms:created>
  <dc:creator>Eoin Mansfield</dc:creator>
  <dc:description/>
  <dc:language>en-US</dc:language>
  <cp:lastModifiedBy>Eoin Mansfield</cp:lastModifiedBy>
  <dcterms:modified xsi:type="dcterms:W3CDTF">2013-09-16T17:25:58Z</dcterms:modified>
  <cp:revision>12</cp:revision>
  <dc:subject/>
  <dc:title>Slide 1</dc:title>
</cp:coreProperties>
</file>