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E54-5705-437B-8B2D-E6B1F691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577-04BF-4E5A-8B2D-44F24AF1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7D9-13AE-40F6-A75B-A1D507B6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361-8D1F-494A-81C8-1F0B7616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1353-4AAA-4E31-8231-316B4873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408F-06CA-42D9-9A66-8F3C1B48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4A8F-6AA4-46C4-8727-9DDBCA8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40C7-C058-47DB-9327-AD2B17EA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15B9-8573-4CB9-A16E-189B84B5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5349-7EE6-4B15-A9CC-F8C718E7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56A1-C012-478B-9962-B142B4E4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CDF-1FF3-4192-891B-62C0BC32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7B77-74C5-49A4-BA26-F07CE73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2A90-F323-478A-BCD6-6DD2A4EC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DF9-27D1-4BF1-A052-E1EE787B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CF6-A4A5-458D-A29A-5383E126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F034-276C-4AF1-886F-B3A836BD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0D0-92D2-4136-B66F-803F5CA7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131-16B5-4698-8AB2-28C891EF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F981-1009-4F8B-8D67-5726AB8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7F0D-5C19-4E05-8D2E-7EB373ED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F7A-0F1F-4FB4-BA74-098446D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0369-E41F-4B9C-A83D-CEFFD57A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9A3-A976-49F9-ABC2-1A3B5770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F35-EEE3-4A49-805E-FD7BBB6EC646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6296-2C8A-4F4F-8698-5BFF02A43C0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utting of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62472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5516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41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68836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669780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2144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4087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264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7672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4284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76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1700280"/>
            <a:ext cx="5905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90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60483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7708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04836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0487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1927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47200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97672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0872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640872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040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770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633744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19308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9058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689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90544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63529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5776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69120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1214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3435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623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835280" y="2637000"/>
            <a:ext cx="593064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712800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2643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2852640"/>
            <a:ext cx="633564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7:59Z</dcterms:modified>
  <cp:revision>19</cp:revision>
  <dc:subject/>
  <dc:title>Slide 1</dc:title>
</cp:coreProperties>
</file>