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DCB-FACB-44E4-AAC9-36346EA2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721-0896-44C5-8C05-79F65D76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28D-DEAD-4E2E-90DB-150A07A1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97F-8FEC-437C-A939-4CC58955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2103-0398-436A-BC4F-049AAC68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B3B-FEE1-4262-B9A6-6FE37A5D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854-8559-46EE-851A-C7296566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48E9-F337-4119-A981-ACEEB0D9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E20E-74C6-4225-98B0-BBAED1B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FAE2-1F1C-4EE2-A0EC-255B6ACC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6761-CDC1-4285-91B6-7D9F600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650-6E20-4033-BE74-45794B7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BBC-F531-4273-86C8-1D261E80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2C17-04F2-4C16-9C6A-592197B3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D48A-3AA5-451B-B0B1-B6B62B54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86C9-B236-4230-BA6A-6EF09AB9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9172-20CF-4BB0-849F-98DDB066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D40-3650-4A0A-9FD9-5988780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C19-1D0E-418A-99B9-47A4F6C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0B9-3EF8-4477-8480-940A8F04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E66-33EB-486A-8F5D-814C9A37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616-50E2-4F2F-BD7F-A0CDAB4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CFD-4BC7-48DB-BE5F-96934BAC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734-8C42-43E2-BA65-DC77430F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A591-8E7B-466A-823C-5983BE523FC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78E-F058-4F66-9E4E-C44203D53513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3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84036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9832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9850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76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7201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7852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8453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4087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91200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545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5436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192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1:18Z</dcterms:modified>
  <cp:revision>11</cp:revision>
  <dc:subject/>
  <dc:title>Slide 1</dc:title>
</cp:coreProperties>
</file>