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AD7-262E-466B-BEB8-729E49FA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A84-4EA6-46C3-99D3-D3BB0E4F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62EB-37EB-4216-BFB4-57B3BBD0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715-83FB-4D6F-938E-FA1B3968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F35B-4ECB-4489-B830-2F329E90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B681-8469-439B-99B4-EB13D179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C995-3B8C-4F53-9F18-E5CF6603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FA31-9CC7-46A9-B03B-7547EA3F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CD8F-38C6-46A6-8902-BFD48313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5F95-7FD6-4805-9443-CF62FC7C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BE31-EA50-41F6-8EC3-45BC563F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76BC-96B6-49E4-B1BA-70FAC6E4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9037-377D-488B-9EFE-7071510C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2324-B38D-48D5-85F7-DD756191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5F5C-C49E-495A-B25C-C96A0474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99AA-5866-41FA-AAA0-3620F770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9C36-8F27-4847-B881-977D90E8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FA0-594D-4C41-94E7-75ECCE82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CA7-9C80-4569-A5D9-B834B862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9EC1-81B4-4C05-A416-FF7345B3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F203-F3A3-49D7-9138-A937AAC0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C7E-376C-4AAA-8789-19E56027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45DD-059F-481F-8489-98A6FAF0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20B0-E7DF-4490-9151-1E6F0179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08DF-8260-4CE7-9D9A-F3671544A8F8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7A51-0B70-4734-9112-4469470568AA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Materials Testing &amp; N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63680" y="2311560"/>
            <a:ext cx="55911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78080" y="2263680"/>
            <a:ext cx="5562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73520" y="2268360"/>
            <a:ext cx="4371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62360" y="1844640"/>
            <a:ext cx="439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92520" y="2401920"/>
            <a:ext cx="45338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59160" y="2506680"/>
            <a:ext cx="52005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963880" y="2440080"/>
            <a:ext cx="419112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78160" y="2111400"/>
            <a:ext cx="3562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54360" y="1920960"/>
            <a:ext cx="4610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82920" y="2073240"/>
            <a:ext cx="5153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54200" y="2082960"/>
            <a:ext cx="5010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49400" y="3316320"/>
            <a:ext cx="4419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471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639880" y="3463920"/>
            <a:ext cx="48387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44640" y="1973160"/>
            <a:ext cx="4629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16120" y="3021120"/>
            <a:ext cx="488628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13160" y="1844640"/>
            <a:ext cx="329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982960" y="3511440"/>
            <a:ext cx="41529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68640" y="1844640"/>
            <a:ext cx="5781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0200" y="3425760"/>
            <a:ext cx="40384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626436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78240" y="2035080"/>
            <a:ext cx="516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61672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50920" y="2193840"/>
            <a:ext cx="525636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92360" y="2139840"/>
            <a:ext cx="621504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6507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61070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050920" y="2511360"/>
            <a:ext cx="56563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33880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692440" y="3106800"/>
            <a:ext cx="47340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11320" y="2344680"/>
            <a:ext cx="60958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82960" y="2544840"/>
            <a:ext cx="59529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16240" y="2449440"/>
            <a:ext cx="54864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16240" y="2373480"/>
            <a:ext cx="54864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49360" y="2492280"/>
            <a:ext cx="5419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28:20Z</dcterms:modified>
  <cp:revision>14</cp:revision>
  <dc:subject/>
  <dc:title>Slide 1</dc:title>
</cp:coreProperties>
</file>