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6E3-3034-47D1-8D93-3AE054A5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F49-EF6A-4B93-A7FA-52C91B2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B8E-D36D-42D7-9223-EC5CCF9D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FE6-D743-4CC3-AC68-7ACAE41B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3C40-A001-4B56-9AD9-89F35DC6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C8F3-67AA-4167-ABD8-6B58D47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975-3E7B-4F24-B85F-45CBCE9A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3151-2913-4734-8524-A80CF51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654-7096-4DAF-A15B-6A638B47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1474-B0C4-45B4-BE04-245AE9A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13B-AF56-4376-827E-B997673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0CE-1959-44C2-AA50-B3EDCDE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172F-73AB-44A4-BA91-A6A5B14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053-2C26-49F9-BA65-516F1C2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4048-9FD7-450A-84D2-DB37C41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EEE-D1D3-4294-A06B-37599D6B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DCE-A765-487D-957C-0D698CD9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B16-9076-45AC-8B5F-AC342367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F21-2EEF-4E4E-8CFB-F787B956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18B-3EE4-4700-BD9D-57B61801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0DE-DCD7-432F-AA24-E1D51E6E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B83-F93F-4F10-8C7F-8DA9E6E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0D2-E45C-461E-9EDE-8CBC7F1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60B-79B7-4BE1-9BE5-5369585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0B6A-F5B2-4239-BCE0-C3790A73578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8BD-CB11-4040-8D48-A0BB55525D2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utting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5516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8836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697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40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767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2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6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905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90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0483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770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048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048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92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720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9767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6408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77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337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93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90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905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352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577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6912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214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3435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23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93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7128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264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63356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7:59Z</dcterms:modified>
  <cp:revision>19</cp:revision>
  <dc:subject/>
  <dc:title>Slide 1</dc:title>
</cp:coreProperties>
</file>