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318-83AB-40A1-A4A4-A75CD4F8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056-B9C8-4B89-AB8D-136706ED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04B-820A-41D9-B19F-A0E17A09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70D-B5C0-47C0-A15E-D7B78D69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2157-7FA5-48B9-A671-0F7A29F5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092F-F31F-4354-B038-80E88CFE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6573-F882-469E-9D9F-2513A5EF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8A3D-59CF-42AC-9CC1-C5E8B000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1C2C-FA18-419C-84C5-375DF19B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19F6-4B83-4B18-8485-8D3CF3B9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93E9-AB15-4731-B939-4D55F252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F30-09D2-49C3-BD97-282A286F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67E1-6C3C-4C2E-8B3D-85013ADD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A7F3-E2B4-45CD-8494-D514F7F6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A96C-B1D7-4E0F-9CEB-BAF45943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94EE-185B-42CC-A820-A341E39F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B5B6-86B6-4D86-91A0-B4978EC8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E81-CE54-4A36-9C6B-83CA2F25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256-44CF-447C-84D0-B2B87633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A5E-0126-477F-BA75-65C12312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B8A-AB82-42DC-A2BB-341E3E92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244-FB10-4A57-A861-302C21A4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EF0-1DAA-4488-8110-B673924A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6422-797C-46EB-887E-18DF1514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4BED-3BF3-4D04-BA6B-3B2573A96D5A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F130-33A1-433E-939E-3DEF2629087B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61200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91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33744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6247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91200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9850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7200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71280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2010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26580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72010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2913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872320" cy="43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04836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71280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72010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1294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70563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624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05636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3:31Z</dcterms:modified>
  <cp:revision>15</cp:revision>
  <dc:subject/>
  <dc:title>Slide 1</dc:title>
</cp:coreProperties>
</file>