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449-7B3A-4650-9D51-9B51996E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09F8-5A7B-4A32-B9FD-403B98CA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3B6-BEE6-46E3-B17F-1E84560E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9256-60B9-40D1-A319-260FF4FE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4531-3DB7-416D-A356-49C20304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555D-96C3-45F8-A953-5C1EA927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75AF-C4D7-4CC7-83E9-96346C09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E8DE-F439-4FD7-ABFA-ED89A778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39C9-C2A8-47E4-80A2-542501F5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6F69-254C-4A9D-BDC8-BAC6F782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82D9-44AD-47EC-A73A-BB6689ED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22EB-BE55-49C5-B9FE-DA649755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EF12-8AD0-4823-9AF9-4D87903B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9DF2-A865-4420-A062-8C97FDE3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C111-BC39-4B29-BFF1-E8956086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0565-CE19-47AB-A13E-A97D1164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7460-B504-45B7-83C8-B10EA5A2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A1E2-495C-4C55-A39B-B8A49738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DAE4-BDD9-482D-9331-D825C37D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5CD-BF5A-4DDE-8EDF-92CB7416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BB0-DC75-43F2-B37A-358FD066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CEFE-75CB-49F3-854B-8AAE3519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8A58-7B44-4474-9BCF-C8FC280D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BD24-B8DD-498E-A205-A02BF755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1641-E62D-4503-A1D6-52378F3CFF32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563B-4378-44F0-91A8-D903F70BFB50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Mechanisms &amp; Electr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6247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583272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6048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65530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64803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33564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64087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604836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68980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97672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532944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18508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25636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7380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55436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554364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90544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61672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9676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473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738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25636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7380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32764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00720" cy="46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4087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340000" y="1792440"/>
            <a:ext cx="492768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92360" y="2050920"/>
            <a:ext cx="6183360" cy="42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557532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5023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32764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4007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9770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9120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84036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98508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39:46Z</dcterms:modified>
  <cp:revision>18</cp:revision>
  <dc:subject/>
  <dc:title>Slide 1</dc:title>
</cp:coreProperties>
</file>