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F0F-4A60-441F-9C3B-D167AFD4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24B-89E4-4917-81E8-75C74D37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B8F-BDF0-448B-B3DD-D87E7703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A3A-91AC-4B32-96C7-DD6AB6D9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AF1B-F5E1-42D1-8A44-BA7D98FC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67AC-0739-4BB8-B4F2-60AECE0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78EF-2305-4F36-8ED6-309EA3D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2DC2-50E0-4230-B9AB-33034698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F688-4F31-4E5A-93D6-1FBF993D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53E-B3A2-469E-8408-3307050A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6C35-37CE-40C5-9ECD-B8BD22BD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C8D-3AD5-43C5-BDD4-6790A122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A7CA-4248-4C53-9A7D-F497E2B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1372-6D29-4E0D-91A7-4CA472A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ECEE-026D-4C1C-9DB3-DA062C6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D234-936E-4CAF-AC03-9B9DB15A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27CA-D5CA-4D9A-9887-18782B40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BDB-22D1-4DAA-B267-B516C4E7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98F-99F3-4A5F-9F2E-E55E97F8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8AD-3F64-476E-A071-0FECD78E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A66-4CB4-40DD-AD99-6EDA17A4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DF8-4F36-4F00-A19F-2BF7C1B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CAE-9A74-41F7-93B6-A6A88E94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13E-511E-404E-AD7D-5756D39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3B1E-5C82-40C9-AE6A-4CCB06A4D397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3243-0D8A-4D4A-B4D1-28A66B25305E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9120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803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97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55308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5799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4310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840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7343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696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985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1930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2:48Z</dcterms:modified>
  <cp:revision>14</cp:revision>
  <dc:subject/>
  <dc:title>Slide 1</dc:title>
</cp:coreProperties>
</file>