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6ED5-376A-4443-9093-1B087E255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2BB7-111E-4BC6-9724-015E47B4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51CC-BE66-4C1B-A841-53A8CCD6C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7612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4896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0328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7612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4896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840E-5892-4A24-9C6B-2EFB5DE92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4F803-C0EC-4373-8049-861BBB02A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40177-2B9F-4130-B623-473031FAD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F09FB-DC6B-4A5C-9014-69C47AA6A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8517A-66D3-43C2-8010-054DA7B9B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E49C6-AE1B-4B75-A12D-EC631698C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FC3D1-53C4-4E97-9056-18E68B3C3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DF338-E96F-4C15-8146-9C1491D8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DC27-B404-4CD9-B79E-168C5670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1E7C8-AE69-4DB2-B0BA-B6858BB7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1FBA2-091C-42A9-B265-A05DD52E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D8145-53E6-4A51-9532-E53C6A124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F7F68-18C4-4A68-BF67-DF4156750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7612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4896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0328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7612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4896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7D0E3-F4D6-4085-BF27-3345CE3FE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3277-DAA9-40F0-8B21-8B1D7B2DC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A76F-4375-4993-96C5-7B1BD6212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307C-35BF-4C6D-8B43-9B355ABBA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4330-7B0B-4414-92D2-989375812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E48C-F4A1-4831-BEEE-9409CE73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A1BF-7002-40DB-B1A2-44A9FD27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A4AD-2242-4F38-AE55-157DFFFC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6760" y="0"/>
            <a:ext cx="11924640" cy="3809880"/>
            <a:chOff x="-3236760" y="0"/>
            <a:chExt cx="11924640" cy="3809880"/>
          </a:xfrm>
        </p:grpSpPr>
        <p:sp>
          <p:nvSpPr>
            <p:cNvPr id="1" name=""/>
            <p:cNvSpPr/>
            <p:nvPr/>
          </p:nvSpPr>
          <p:spPr>
            <a:xfrm>
              <a:off x="-3236760" y="685800"/>
              <a:ext cx="41144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3880" y="0"/>
              <a:ext cx="30934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df28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3040" y="1523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df28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df283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df283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800" spc="-1" strike="noStrike">
                <a:solidFill>
                  <a:srgbClr val="000000"/>
                </a:solidFill>
                <a:latin typeface="Verdana"/>
              </a:rPr>
              <a:t>Copyright © PracticalStudent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AA49C-2514-4490-B6C7-472F7D77AAC6}" type="slidenum">
              <a:rPr b="0" lang="en-I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9DBDD-05F4-49C3-9F54-985557AC8566}" type="slidenum">
              <a:rPr b="0" lang="en-I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-3236760" y="0"/>
            <a:ext cx="11924640" cy="3809880"/>
            <a:chOff x="-3236760" y="0"/>
            <a:chExt cx="11924640" cy="3809880"/>
          </a:xfrm>
        </p:grpSpPr>
        <p:sp>
          <p:nvSpPr>
            <p:cNvPr id="50" name=""/>
            <p:cNvSpPr/>
            <p:nvPr/>
          </p:nvSpPr>
          <p:spPr>
            <a:xfrm>
              <a:off x="-3236760" y="685800"/>
              <a:ext cx="41144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-2423880" y="0"/>
              <a:ext cx="30934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df28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73040" y="1523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Engineering Questions by T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76360" y="1844640"/>
            <a:ext cx="7056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Ordina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Question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45 Ma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4 Question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6769080" cy="44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5 Question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676908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6 Question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476360" y="1844640"/>
            <a:ext cx="705636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7 Question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6912000" cy="45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8 Question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705636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9 Question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6840720" cy="46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0 Question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03280" y="1844640"/>
            <a:ext cx="7272360" cy="35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0 Question 6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6840360" cy="42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1 Question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547640" y="1916280"/>
            <a:ext cx="6912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1 Question 6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908000" y="1628640"/>
            <a:ext cx="5905800" cy="45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6 Question 6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626436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2 Question 6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63640" y="2349360"/>
            <a:ext cx="632772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2 Question 6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340000" y="1700280"/>
            <a:ext cx="501012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3 Question 6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908000" y="2205000"/>
            <a:ext cx="631692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3 Question 6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340000" y="1700280"/>
            <a:ext cx="5037120" cy="44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7 Question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2360" y="1628640"/>
            <a:ext cx="676728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8 Question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684072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9 Question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547640" y="1844640"/>
            <a:ext cx="698508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0 Question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84072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1 Question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6769080" cy="41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2 Question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835280" y="1700280"/>
            <a:ext cx="648180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3 Question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19280" y="1773360"/>
            <a:ext cx="691344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23:18:43Z</dcterms:created>
  <dc:creator>Eoin Mansfield</dc:creator>
  <dc:description/>
  <dc:language>en-US</dc:language>
  <cp:lastModifiedBy>Eoin Mansfield</cp:lastModifiedBy>
  <dcterms:modified xsi:type="dcterms:W3CDTF">2013-09-16T17:45:59Z</dcterms:modified>
  <cp:revision>17</cp:revision>
  <dc:subject/>
  <dc:title>Slide 1</dc:title>
</cp:coreProperties>
</file>