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A2E-3BFA-4DA1-8597-8DCA60F0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FCC-005B-4D88-B712-899F5FF4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D671-CC23-4CA7-A46C-C34A8B03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91C-D265-42D6-AE61-284C2A01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EE31-7304-4939-87FC-7DD166E3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CE35-6DB0-423D-9136-976F4BC8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5E38-BC10-40EC-8C88-201F16B6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30D4-C873-47AD-BCE4-C9BD4FCC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32DB-735B-4C8D-A296-C37DC193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478F-BC08-48D4-A8ED-D56EFBA9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78C5-7CFF-4871-BF77-E9778B1E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7AD1-32FB-40C7-B3C8-CACC86C5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B60D-B180-41E4-AEB8-B9AFE975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E7AD-08DE-49CC-876F-0C3E5DCB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10DD-47FA-4C1D-ACD7-4CA0EAA0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5522-7026-456E-9D11-8BDE8F7F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45D4-B120-48A4-AA3D-7239BBE4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267-5330-427B-AA6A-3ADE05ED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6BF-4669-48D3-B761-CF7F04D5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9DF-8B7B-4385-AFE2-246384CC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299-B67A-40B1-8B56-340AFD47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D8E-33DD-4318-8969-5BCC8321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00F-85C0-4F07-8F40-9BD0C522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E1D-FB66-4B67-982B-50834676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3F1F-F283-4DAF-83B7-B51016391C11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F0A5-88DA-47C7-977A-A31FC4CE3F7E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Poly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2643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626436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480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60501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759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5436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7610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90544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7596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561672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55308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9040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62658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61200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688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2578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400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1847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40000" y="2637000"/>
            <a:ext cx="5327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3374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5832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48036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24000" y="1908000"/>
            <a:ext cx="535464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51102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645948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508644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313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12800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48000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66247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832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6985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977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6:08Z</dcterms:modified>
  <cp:revision>16</cp:revision>
  <dc:subject/>
  <dc:title>Slide 1</dc:title>
</cp:coreProperties>
</file>