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8C3-DA02-4044-A60D-5621D240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AB1-483D-4F1B-A666-B35F390D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443-27A0-4E8C-A35F-4441B956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B9F-2A04-4249-9630-AEDE93A7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B9ED-146F-4194-9DE3-EC2B5E0F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F623-ACDA-48B2-BF31-FB8E03EC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3131-4598-4768-809A-8486FCBC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A17A-4E11-4A91-9D72-04440E4B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14B2-434E-4328-AFC2-A7C081F8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CA5B-6008-4D13-AEEB-8E4663DB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9518-DB26-461B-A485-495B88E5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C8F-924D-4771-A59A-36E31157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8AC9-5329-4F3A-8737-44DAB35F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D47B-D5D0-434B-A056-D824A464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7C6F-29CF-4914-929B-9F1544C0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4E34-B5EE-4027-BB52-AC3CCA6F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95E9-513C-4088-9EEA-D277A0F5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280-7784-4B6E-A859-35E5F570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095-8619-4159-88F9-8098BAD1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F6A-F7D8-494A-9E74-A22EC2C8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257-5322-4715-A755-449C5782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102-1DBD-497D-B864-DC95FA3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AEC-D8E6-4399-997E-46827D3A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C81-B84F-4E8C-9CE7-AD6045E1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161A-34E6-4D61-930D-E1B3FC44851A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C50E-F1D7-4C72-AE9E-026AA358F079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hor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62658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5516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2563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6121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5454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9058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905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60483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56894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543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61214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47527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3992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977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83416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761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6163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47236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688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761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5436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6193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5623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715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63370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7056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7672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761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62472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769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14:07Z</dcterms:modified>
  <cp:revision>11</cp:revision>
  <dc:subject/>
  <dc:title>Slide 1</dc:title>
</cp:coreProperties>
</file>