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636-3F45-4C21-AE83-CF599A59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946-A0C9-4D61-BAE4-3AC22780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E34-A7C3-478B-AEEB-88986BDD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B68-87B6-4846-9C5B-36EF43C2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CC76-7AA3-4ACF-9032-7ADAE751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498D-2289-4A25-B71B-065C4AA5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C7EA-9E72-44B6-9923-B26A2034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FFF4-12AA-4F80-ACE8-49C12C31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7747-FECF-4DC2-89D9-641B263D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1302-7415-4889-8B7C-2820DC2F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DEAE-49B3-4D72-931C-C9F6CE8A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AC1-C2D2-43C0-952A-66700288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90E8-B868-4B05-823D-E45C71E2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7E55-4CD3-4FA1-882B-0D38C939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CDE6-43B3-404D-AD3B-6C13B4AA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9CD3-9553-4B12-86DE-7859F903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3697-0C94-4523-B45B-FCBF384B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848-B2E6-469C-AF8A-BAF2BA27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B26-2392-4EA6-941C-73C36234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30A-862D-4C6D-BE9B-12E3BE99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16F-EB17-48E3-A748-16606427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0F6-FE27-4255-922F-BF01CFD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477-2B80-4D66-8ED1-CA7804BC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208-0583-4BB8-BF72-DB254CB6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BDC2-2F53-4AB6-99FD-B61DE38A1B85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DA31-90CC-4E29-B08A-92A84CE182B8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pecial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4734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6963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84072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4734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19308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55164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9770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6247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7527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33744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850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897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400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76108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3294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264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6247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969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6167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43624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561636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B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8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3294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25636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33564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B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9054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580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B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24000" y="1666800"/>
            <a:ext cx="54738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72752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B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24000" y="1763640"/>
            <a:ext cx="5531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opic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47640" y="1628640"/>
          <a:ext cx="6840720" cy="4753080"/>
        </p:xfrm>
        <a:graphic>
          <a:graphicData uri="http://schemas.openxmlformats.org/drawingml/2006/table">
            <a:tbl>
              <a:tblPr/>
              <a:tblGrid>
                <a:gridCol w="3421080"/>
                <a:gridCol w="3419640"/>
              </a:tblGrid>
              <a:tr h="2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283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2836"/>
                    </a:solidFill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mission Syste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neumatic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type Des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magnetic Switch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neumatic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uret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per Mo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ss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ifugal Pum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 Gener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neumatic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bi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tovoltic Ce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ybrid Eng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lerome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ine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s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rling Engi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1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05636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60498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97708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840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2578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25:58Z</dcterms:modified>
  <cp:revision>12</cp:revision>
  <dc:subject/>
  <dc:title>Slide 1</dc:title>
</cp:coreProperties>
</file>