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E723-0039-43E5-8C5F-47756C12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EA14-9C81-44B6-B803-3621EBE0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E55B-C3ED-4AC6-AEE4-9217A193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232E-424B-4AE5-95F8-FC1FFA0A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4E64-078C-4D17-9A3C-013EDA4B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CDE4-CF74-408F-B401-4FB598A6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D03F-52E2-49F0-968F-7902195F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C0C1-493B-4072-96B2-B769A642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AEDF-ACF7-470C-BF80-0C47FE8E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9982-A2A8-4F72-9F77-7865D2C8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D7B4-7ACD-4E0D-AAB2-49949BB6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BF2-A3DE-4209-A104-E795B126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22D5-9B68-4BBC-A7C6-3AA7F538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269F-1CAD-4299-B764-505069EA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9B43-E10C-40C6-89D3-DCE5E6A7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ED9B-6420-4A7C-BF0D-33B0F1A9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6625-9287-4B5D-9916-4BBD915B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4291-40DE-4AC4-A791-1979E80B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7B5E-4BB8-46D2-AFC5-5D88A328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DDD-1E99-4AF1-AB75-1AE0B560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8824-75A9-45EB-8CC0-758AE824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CAA-BA2D-4ADA-A67D-A222332F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E335-7549-4676-9581-38A5EB1B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3F1-B394-4595-A16D-8A2F2EFA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73F5-042C-45B4-B0E7-9AAD43BBA223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2D70-26A1-4C03-82E1-C2CA7D859B73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rdina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45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66960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604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626436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62472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669600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7690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5530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72723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74856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6054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59054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6696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71294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712800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7272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2492280"/>
            <a:ext cx="691344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633744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691344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42:01Z</dcterms:modified>
  <cp:revision>14</cp:revision>
  <dc:subject/>
  <dc:title>Slide 1</dc:title>
</cp:coreProperties>
</file>