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A55-3D45-4908-BE6B-1B7A2D41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819-DF0F-4C3D-AA47-CB69B17A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78F-F97A-4C15-AEF6-82152639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2D9-1ED9-4D09-9A66-9F88CE93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CB8-6886-4F60-8F35-633204AE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A0E4-5050-4EF7-8DDE-3F0305E3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088B-0762-4A52-9521-0BBC7B2C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FE58-8375-4A70-9697-55929888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BFC1-0DC0-4A87-A2D7-33611A82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2925-6D6C-4003-91D8-F1451217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21C8-092A-433A-8AAC-8628F415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DE4-EC79-4424-8661-5EE46C67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5684-76AA-4A55-BA80-857216D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FB72-374C-4535-B2A4-20EBDB39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26E4-2F53-4771-B7E3-ADC089C5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DDB4-C55D-400E-A005-963DC26D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6E1A-2CAB-4016-BC46-46829212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AD7-ABAC-46FF-A24B-BEA94D8C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6FF-8A65-4935-8946-877D1142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3C7-2436-48E5-99D5-EBC505A2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1A2-BD1C-4F0B-A178-ACBF481E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842-D117-4BC0-AB21-1030D6A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D8C-3555-4C7A-AAEC-A2CA2D3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EF0-9367-4928-907F-8E1DC3CB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6E11-553C-4CA2-8626-16E2C2438184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CD62-0087-4C18-ACE5-1A9F15B06897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hermal Equilibrium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4007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840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4723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59058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403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854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8323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87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5516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0483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6818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5834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81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38163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6963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040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7280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049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03280" y="2206800"/>
            <a:ext cx="66945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0374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65134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8360" y="2230560"/>
            <a:ext cx="52246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92164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0563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6247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480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904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7596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2:13Z</dcterms:modified>
  <cp:revision>16</cp:revision>
  <dc:subject/>
  <dc:title>Slide 1</dc:title>
</cp:coreProperties>
</file>