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46C3-EAD5-4383-977E-BA3BD2C82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21DC-B9AF-48BD-BF17-D209939FB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FFBA-2972-4B13-8A3E-B0C419FCC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7612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4896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40328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7612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4896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9ECF-8A20-4456-9329-C28234962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E0E15-A24B-4248-BA00-81EA48040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79EBA-B797-4716-9F5D-FADB08955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93808-B619-4B19-9C81-7B1551FE7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8F56F-6166-477F-93D7-F1E99269C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C9BED-53C2-471C-BFA9-4F0F3CAD7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B9774-1391-416C-A93E-CBD5CDB62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1E712-AC49-47C2-A61D-CC9F25B37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7EF8-6BC2-42B9-9778-1239D977A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4AB20-8548-449B-8778-7820D4865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67A13-FD64-4B25-AA4C-4167F5C6D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0CDE1-DAA1-47B0-995B-C0104B3A4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4CBC5-F46E-4E5D-B74B-57759103D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7612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4896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0328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7612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4896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2B333-CAB4-4184-9223-6CC43AA98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3587-DC17-434F-9638-FEE3BC169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7E9C-CD1A-4233-A1D9-EB4658E69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EA51-3FB3-476F-9297-A4E691C74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86D7-238B-40D3-ACB1-0AAB7BC79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95DB-AE62-41B1-B9DE-412216B56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018A-0D7D-4DE5-BC67-8439F2A14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8F3A-DAEC-41EE-B142-162733F8D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6760" y="0"/>
            <a:ext cx="11924640" cy="3809880"/>
            <a:chOff x="-3236760" y="0"/>
            <a:chExt cx="11924640" cy="3809880"/>
          </a:xfrm>
        </p:grpSpPr>
        <p:sp>
          <p:nvSpPr>
            <p:cNvPr id="1" name=""/>
            <p:cNvSpPr/>
            <p:nvPr/>
          </p:nvSpPr>
          <p:spPr>
            <a:xfrm>
              <a:off x="-3236760" y="685800"/>
              <a:ext cx="411444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3880" y="0"/>
              <a:ext cx="309348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df28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3040" y="1523880"/>
              <a:ext cx="731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df28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df283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df283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800" spc="-1" strike="noStrike">
                <a:solidFill>
                  <a:srgbClr val="000000"/>
                </a:solidFill>
                <a:latin typeface="Verdana"/>
              </a:rPr>
              <a:t>Copyright © PracticalStudent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BB7D3-D8BB-479D-A2E2-340AEE3D69E1}" type="slidenum">
              <a:rPr b="0" lang="en-I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F0647-22E2-411F-88A6-577731BA417C}" type="slidenum">
              <a:rPr b="0" lang="en-I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-3236760" y="0"/>
            <a:ext cx="11924640" cy="3809880"/>
            <a:chOff x="-3236760" y="0"/>
            <a:chExt cx="11924640" cy="3809880"/>
          </a:xfrm>
        </p:grpSpPr>
        <p:sp>
          <p:nvSpPr>
            <p:cNvPr id="50" name=""/>
            <p:cNvSpPr/>
            <p:nvPr/>
          </p:nvSpPr>
          <p:spPr>
            <a:xfrm>
              <a:off x="-3236760" y="685800"/>
              <a:ext cx="411444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-2423880" y="0"/>
              <a:ext cx="309348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df28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73040" y="1523880"/>
              <a:ext cx="731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Engineering Questions by Top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76360" y="1844640"/>
            <a:ext cx="7056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Ordina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Question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45 Ma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3 Question 7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763640" y="1628640"/>
            <a:ext cx="6193080" cy="48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4 Question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6769440" cy="45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5 Question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619280" y="1628640"/>
            <a:ext cx="6337440" cy="48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6 Question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669636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7 Question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619280" y="1628640"/>
            <a:ext cx="6624720" cy="45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8 Question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6624720" cy="46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9 Question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403280" y="1557360"/>
            <a:ext cx="720108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0 Question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476360" y="1989000"/>
            <a:ext cx="727236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0 Question 7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476360" y="1773360"/>
            <a:ext cx="7128000" cy="39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1 Question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7056360" cy="40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6 Question 7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619280" y="1628640"/>
            <a:ext cx="6769080" cy="46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1 Question 7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7129440" cy="43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2 Question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547640" y="2205000"/>
            <a:ext cx="683928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2 Question 7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124000" y="1700280"/>
            <a:ext cx="561024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3 Question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332000" y="2492280"/>
            <a:ext cx="7142040" cy="30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3 Question 7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484360" y="1773360"/>
            <a:ext cx="4770360" cy="44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7 Question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763640" y="1989000"/>
            <a:ext cx="6912000" cy="28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8 Question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7056360" cy="41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9 Question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6912000" cy="42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0 Question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662472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1 Question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692360" y="2133720"/>
            <a:ext cx="6696000" cy="29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2 Question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6912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3 Question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050920" y="2276640"/>
            <a:ext cx="576108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23:18:43Z</dcterms:created>
  <dc:creator>Eoin Mansfield</dc:creator>
  <dc:description/>
  <dc:language>en-US</dc:language>
  <cp:lastModifiedBy>Eoin Mansfield</cp:lastModifiedBy>
  <dcterms:modified xsi:type="dcterms:W3CDTF">2013-09-16T17:47:35Z</dcterms:modified>
  <cp:revision>18</cp:revision>
  <dc:subject/>
  <dc:title>Slide 1</dc:title>
</cp:coreProperties>
</file>