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8C0-B722-4FCD-B0C6-699E7AD7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2EA2-BBB3-4D01-B6FD-8A2E532E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18A-DCDD-40C1-A130-6BE17C87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09A-1BBB-439D-BBF0-55B31B61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7D69-3E3A-49A7-9689-FC44C07A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F3EF-A886-4189-8105-B58365F6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61AF-2A12-48B8-9731-8A0DF10C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D0FA-CE93-48BD-BD88-F42786BE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4BA4-0305-41E4-AB5E-660EF0D6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4C27-CBC6-436F-A435-1E3B0283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557C-2B74-404A-86F3-1FA32457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A75-1BB9-41F0-9968-753F09A4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6366-EE96-4F7B-A1FE-8F091EFA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C7D7-2635-4D4C-A80D-F4CC3953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5DF9-9958-4C0B-8DD8-7049DB75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3FD2-05F2-4D72-97D2-6F3E1CC7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190E-76DA-4BDD-8332-B86531EA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951-BBE0-4B1D-B570-5AE4BEA5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E78-4E34-481A-82CA-FF0FC16B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018-4B7C-4353-895C-23A6C0A9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DCD-B630-451F-AF8B-C6919B09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FEC-2438-4F1F-8A21-2BB0F9E7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021-B0DA-4CAB-B4D8-7BFF4138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76D-2304-4372-B460-32A59FBD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002F-295D-4291-AD31-56AFE1FCFB2F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3E7F-6C20-430D-8D76-F7C64159B79B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W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71280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97672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69850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40872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6480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7610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61930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884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5400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32944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66974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54720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5454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633708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0483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8327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5608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56880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5324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57610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76108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335640" cy="34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55164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95944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6865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050920" y="2122560"/>
            <a:ext cx="55612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76252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61405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24000" y="1936800"/>
            <a:ext cx="55022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7694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9850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983280" cy="31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84036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84072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769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34:17Z</dcterms:modified>
  <cp:revision>15</cp:revision>
  <dc:subject/>
  <dc:title>Slide 1</dc:title>
</cp:coreProperties>
</file>