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00FF-388E-46CA-B086-07E47D71A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B50F-8ADF-4566-BD6B-021ED1A6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C0B3-E36A-4732-8D4D-BFCE343FF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C4C8-C1EC-4368-AA1A-34B091410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33CB-5E67-4281-9AE6-1A39CA8B8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160E-DAF2-430C-AB0A-BF399D26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554A-0226-44ED-BD13-B6F53383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7685-0307-4287-9D0F-FAB1FF9D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B023-016B-4090-84F8-D2B3E3CC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876F-719F-4C80-A675-B7A53AA5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6E85-AFF5-4BEA-939F-8AC797BE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9F92-AED9-441F-A45B-F8F495DB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A46D-68D3-47E0-BF4D-93237C1F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353D-4139-407F-A30A-0279B65D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6731-A4BF-4B43-B202-F13E6EE8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A988-FF84-4176-9820-1AC6DC8CB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2001-2DB5-4A64-BF84-7F1380E9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92C9-235A-43A1-B0C7-BEC238ED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AE43-83A7-4F4F-904A-177D8BBA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029D-9D8C-4236-A010-D47BD529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88BA-4D20-4FBD-8146-A8ABA4F1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4BB0-8505-4639-BD96-2A474A2D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E5A5-1D57-4A44-B63D-1E22EB47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FDE6-6D5E-459E-BCF1-3782B254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6F0C-906A-4A7A-B820-39585ACD5E81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336D-DD4D-4813-B713-95AB32744E13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Ordina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Short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30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9134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640872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98508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76764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7272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26436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98508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720108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702000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32000" y="1940040"/>
            <a:ext cx="72705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1 Section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7690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6481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712800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684036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727236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525600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5472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626436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40:31Z</dcterms:modified>
  <cp:revision>11</cp:revision>
  <dc:subject/>
  <dc:title>Slide 1</dc:title>
</cp:coreProperties>
</file>