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94E-4598-4BC2-AB8A-76FCDF6E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39B-D14A-4A0D-A550-50DC807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7F0-E7D8-4DBD-9C21-FBC916CD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1DA-8E17-4A0E-9906-9492D6CA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9852-8E34-4A13-A194-50F8BF90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ED0-E55C-44FF-9762-0D8A9EF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9BC-D4AC-4F9D-A8E3-0235DED9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0106-11AA-4EF3-80D5-195CD55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9887-72AB-4B08-A0BF-9D4897AC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F07-2679-41E6-8D7A-4331BF93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F9E2-FB13-49A0-A137-A55E85F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4FB-3484-4CE4-B876-02509CC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DAF-29B8-4F6D-A04A-9E4A9D1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446D-30FA-40AD-B886-987BC33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D804-DF35-4ED3-A6CA-A312CB1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BBE9-3CF8-49C3-9269-524AC172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49A1-2EBD-495B-9189-B8D756F3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845-0620-445A-B662-75C5303F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812-A9B0-451C-9A72-6160BD4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0B0-1C68-48E2-A565-41BD62F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278-867D-4CC8-B613-C138F89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A8C-6664-4D89-92CA-F970E13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212-A72E-45DF-B9E3-579DB46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285-A7F6-41A5-A1A3-397CC49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8AB-3CCE-4752-AC6F-A0170951E2D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3DC-3667-4C53-851C-FBA6BC0D79A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13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128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985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84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81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070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257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734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45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272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99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7201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4:23Z</dcterms:modified>
  <cp:revision>17</cp:revision>
  <dc:subject/>
  <dc:title>Slide 1</dc:title>
</cp:coreProperties>
</file>