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E2F5-B924-462A-ADA8-4499417D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E111-7149-49E9-AD3C-D2213E08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5BF6-1F78-46A1-9564-CAC406B3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D6D5-63C6-4D4B-96E1-4560DE14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FF85-E3FE-4D8C-ABBC-B1811380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FF18-C2B7-4F0F-AD91-C0757FD2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0B15-20F3-435E-8F63-91F7EF5A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11A4-408A-4834-B84E-01DFC16A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6EB4-FFB7-4BDC-9030-2775265F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E03D-8482-465A-AD39-247FD479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8FA4-D3B8-4804-8804-DBB7A8FE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0D3C-04AC-4D9A-BF18-8B7C9A3E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24B0-FA40-4C17-A5CB-83B2991C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BC39-C265-42F2-AAED-FCD25AFD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6EE5-7677-4691-954A-4F0B83BB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8C83-4961-4089-9A2C-C37D7AD9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0F27-B788-456D-BFEB-81BA53AB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DBC8-062E-4D14-88C5-EF7F0030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A4B0-B50B-4FD6-A8C4-947DA4A2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D88C-FF59-4B03-8EA1-F820B753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107B-80DB-4AF0-9AFD-FEBC77BC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188A-D29C-4474-AC20-FEA19E28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8D5C-4DCA-4384-BB81-ECFD2E79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6896-212D-4F14-AC68-90DFF109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73CF-43EC-4E55-AEBD-B54703C364E2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AAE9-DE98-455D-B35E-C8688F04FCB4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Iron &amp; St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50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676728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62472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712800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532800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62472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90400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3640" y="2492280"/>
            <a:ext cx="655344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54508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8000" y="2708280"/>
            <a:ext cx="60487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54364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52563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575964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6050160" cy="24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8196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627280" y="2637000"/>
            <a:ext cx="5184720" cy="16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484360" y="1628640"/>
            <a:ext cx="446400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688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96872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8000" y="2852640"/>
            <a:ext cx="626436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633744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64818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82436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24000" y="2565360"/>
            <a:ext cx="583272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4375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532908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5943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979640" y="2637000"/>
            <a:ext cx="561672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1847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568980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340000" y="1706400"/>
            <a:ext cx="509112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484360" y="1798560"/>
            <a:ext cx="48657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6048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63640" y="2416320"/>
            <a:ext cx="58626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74660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64213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619272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669780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619272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66247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612144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30:04Z</dcterms:modified>
  <cp:revision>12</cp:revision>
  <dc:subject/>
  <dc:title>Slide 1</dc:title>
</cp:coreProperties>
</file>