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706-ED3C-4C0B-8CD9-704AF1E7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E402-5A57-4F49-91B6-CEC6E5BE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AA74-FF40-4918-8448-8D022132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6662-3852-4E22-B500-020544E2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8CA5-1048-4994-9127-C2469AA2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4D29-A6BB-4362-A6E3-ACAD9CF7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6FEE-153A-4FFB-83B8-C6F00393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0F05-E050-4E25-A958-78B1C6AB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A70D-8165-414F-A53E-E41D1B40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7A4C-D599-4708-8167-F6A82A48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DABE-F243-4B02-8755-083A8416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0BCF-F602-4F9C-BA88-A765DD06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3C2C-B49E-49A2-B32E-DB830532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2AA4-1F9C-4BA6-B0D0-6A9E598F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165E-CE6E-4F29-8D27-EEAB2DA7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8836-D5C3-4F4E-A1E7-EE8885B4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8960-E22B-4C34-8BA9-2775A4A2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2595-6D6D-4DE0-B1E2-96D84415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1F60-3EF5-4AC8-9959-83A75A35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9EC3-2854-4C3E-ADFE-D69F0606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EBD7-62D0-4A01-B534-FCCD3217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4DBB-55E8-478F-93DB-6BFDFDDE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FA1A-D250-4408-ADE0-DAF89BC0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FFD3-9954-4112-9388-169D5CC5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E494-EB24-4731-A641-14C04F3E5DB4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2519-D3E6-4871-879F-317365FE135C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Ordina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45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66960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6048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626436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62472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669600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7690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5530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727236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74856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6054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59054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6696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71294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7128000" cy="25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7272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2492280"/>
            <a:ext cx="691344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633744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691344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42:01Z</dcterms:modified>
  <cp:revision>14</cp:revision>
  <dc:subject/>
  <dc:title>Slide 1</dc:title>
</cp:coreProperties>
</file>