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F05-D718-43FC-B326-EE041361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B5A-9CF4-4B68-8F98-3BD05F2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0A1-939C-4518-B2F2-08257F6C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874-D93F-47DF-9243-436B6CC9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6810-E3F8-4E8E-A379-F3FA5284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07A-541E-4EEE-ADF5-71D19D4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C23-E8BD-4A3F-90A0-679BDE2A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6C1-75CF-42CD-92C5-315629EF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0C8E-AEC1-445D-A932-368EC3E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905-B7DC-4ED4-939B-6EA278C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1023-4213-492C-83E6-2F6F77F0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991-1F12-4D5E-AF5C-A391885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004-CDFA-4F33-819C-95A22F2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8910-7C86-4BCF-8516-8FCD59C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D971-E4F9-431C-8910-EF1BBCA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0F47-2DBB-4A31-A9BD-DEB635C3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95F-E707-4452-A46A-3C3F43D8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563-A067-4A13-AAB5-3F5D5FD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A6B-D1E1-4BC6-BC77-88F56697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433-F761-4EEB-B196-7119D80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E28-799D-4F2F-B8CC-397E32D9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0AD-826C-4974-8562-3DA710D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930-C76A-4915-BDC5-94A39CD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6B9-F7AD-4462-B8DC-21CA00E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6D27-CB08-496C-82EA-0CDECB8964B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D28-5DA5-43AA-BB9F-F7A2BC67258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13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128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985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84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81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070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257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734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45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272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99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7201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4:23Z</dcterms:modified>
  <cp:revision>17</cp:revision>
  <dc:subject/>
  <dc:title>Slide 1</dc:title>
</cp:coreProperties>
</file>