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0DC-7699-4389-869B-5F5FF4AE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7BA-B63C-44D5-952A-E6245AC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1C7-8006-42C3-90C0-6AF76D0C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5B1-9F63-43C4-8324-CE0F5B9A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AAE3-7AB4-4046-A8C5-36D4F2CF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68F-080F-45DD-868D-E4683CB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0148-707F-404D-8FA6-700EE39F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4AAE-2D9E-4BC7-8D28-F6854527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F63F-434A-4912-9635-EC79F4E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FF4-0142-48F4-833D-B337532F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5F1-635A-4349-9E56-994D47F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5DC-FCD9-4C0E-8DFF-8D03A83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1029-A173-4D20-A5E7-5A5D9CA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54F4-5530-420E-94D4-4244B1C0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17C-A59B-4A3A-92B0-51C2A7C9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1EB9-9414-45D2-9583-F710BDD4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F40C-C539-4D41-B679-21EE6B6E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3B7-639F-41E6-B863-16929DBF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0E0-3D7C-475B-B5D2-02C817E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0BF-1437-4BE5-8E0E-2F6C118F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E31-C408-4E62-9EDC-AC355BA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F4A-EE35-4231-964D-83F75AB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418-9038-4E1D-8FBB-E1D2779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8BE-5E5B-49A7-9649-EFF4876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A39-CA57-4D16-B167-08EDFA86235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9DED-9F15-4F57-8F94-69C14934BE35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120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80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97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79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4310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84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343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696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985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193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2:48Z</dcterms:modified>
  <cp:revision>14</cp:revision>
  <dc:subject/>
  <dc:title>Slide 1</dc:title>
</cp:coreProperties>
</file>