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CD7F-3150-4214-8252-9D083098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B87-46FB-4795-9EA6-5DF780ED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C3B-7954-41F2-AAD2-B753EE0D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BAE-B40D-4E55-B554-011C4263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7D0D-2F6C-45AF-AD27-986E9F26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FABE-3C4C-4D7C-B821-B4C2A385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D6FF-DF2E-406A-9311-FD20EF6B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186D-BBC2-4BA0-9569-189C014D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1E74-CE58-4538-AF75-A7DE042F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EBFB-2DF8-4EBA-AA2E-5241A144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FAC6-334B-43B7-9EF5-DD3FDDC2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DCF-A6A6-45B6-8EF2-75825E0F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DE79-4197-428F-ADB6-B23294F8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A12B-33D2-49FE-B64B-87D8550E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91DD-3040-4590-A6FD-B4B6059F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FD7D-3B69-46C7-BCD0-DAE2DE37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F11D-CFE8-4E7E-810A-9B64E0E6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98C-4D18-4F08-A2CA-BC7AA726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B8E-FECA-4F2C-8472-D58AB5A9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DC5-6297-41AC-8DAA-46EB5917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A63C-0287-4BE5-B918-581BB5FC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FD3-8716-4182-B10D-67BB76BC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B20-DDC2-42C9-95A8-1B8A0D18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0612-E0BA-4BED-89EE-BC25C57C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A625-33F6-4822-BC47-AADF5907BF15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2936-9D0D-4C15-A69C-AC2374208934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45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7690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76908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0563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1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705636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84072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72723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84036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912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90580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2643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632772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50101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63169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503712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767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840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9850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8407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76908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64818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691344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5:59Z</dcterms:modified>
  <cp:revision>17</cp:revision>
  <dc:subject/>
  <dc:title>Slide 1</dc:title>
</cp:coreProperties>
</file>