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C6AE-03DB-47E5-992B-39F994D5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F53A-A6DA-49F4-815C-C3DC3C12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602F-A8D2-4B78-BBDB-F810F81F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285-509F-44F7-B694-D7F6FE07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DE8F-09A6-43BC-9D15-5A08494D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824C-54E8-49B1-AF72-346CA41A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0BC5-EDFE-440F-AF74-935866D1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ECF5-8487-413D-99CC-193146E7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0BE8-B5E1-4B0A-9888-4EC95B56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6810-387B-49AB-A11D-9DDA685D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5A99-7A82-4099-8129-C0F03625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9769-814F-4BAA-8A07-1EB9B449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BDFA-78C3-4ECA-B4F8-83DB7A86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C9BC-6FB0-4DF7-B37F-BBF1D3CC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1938-4DD6-4CB2-8AF3-95A0D6A7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DE4A-FA0C-48B9-A868-5397A46E7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50F5-7A00-44CC-ABC4-A8BD3BB8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BC5-A306-445B-B024-A77E3591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83D8-9B86-456A-95D2-ABE5D4DC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67EE-1515-49D7-956D-1193F791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3B82-D829-43CC-B793-A968B919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537B-D2ED-49F9-9F33-AEF3C1F9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91D-ABFE-4040-85D8-EF8F8A7A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0BC-79CB-4501-BF7A-D53BF050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3D85-E2C8-45FA-B86D-D8CBD220FC37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882F-0701-41D0-B988-0D77F0C16C71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Ordina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hor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35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712800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4087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84036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9832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91200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9850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7676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1 Section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72010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1 Section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78528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1 Section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84532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66960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40872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91200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7690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720108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554508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54364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619272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41:18Z</dcterms:modified>
  <cp:revision>11</cp:revision>
  <dc:subject/>
  <dc:title>Slide 1</dc:title>
</cp:coreProperties>
</file>