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582-FFF7-4D64-BF44-D304FDB1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2C8-7650-45D1-8DDF-FC7EC8F5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252-80E8-4D8C-A095-6FF6550E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6F3-A03F-4009-BA7D-3750C81F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1592-7E11-4005-A3F7-EAEB8BD8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01FD-1DBC-4356-A7BE-C1CE3464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0F54-DE4F-46CD-93F1-ED2D2DA3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5893-0F9C-4565-8150-92A097A3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0836-4DF5-4119-A945-F60D78A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754B-3142-4D12-90BD-A1B69EEE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9D81-D24B-4552-913A-00A05FDA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251-680D-4CB5-B7C2-9C9EE2E9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519D-C6ED-4E97-BCD5-DF3E4D6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2415-6735-41B5-AF22-20505A10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185F-ED34-48D3-B296-D061B3A7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8BC9-E8C7-4384-931D-34E26501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E82B-609C-4CE6-B906-08D20FD1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38B-1F50-4087-ABDF-4B1FB67B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DF3-9282-42E6-8FAB-6345C961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F16-E0F2-4FF4-8313-0197E47D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EBB-4320-4CCE-A3F9-252281DD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386-777E-4204-B6E5-5C0FDA4F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E57-843A-4C9D-9C64-2A8E9B97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D8C-2F90-4DD1-8A9A-79347289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3D54-2A06-4834-BECA-774DD904576A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F20F-E4F8-4260-A468-2BA42A730A22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19308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769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963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6247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2472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7201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2723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7128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05636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71294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8392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6102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71420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7703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69120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05636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624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69600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912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57610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7:35Z</dcterms:modified>
  <cp:revision>18</cp:revision>
  <dc:subject/>
  <dc:title>Slide 1</dc:title>
</cp:coreProperties>
</file>