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866-6A3E-450B-8C65-225131F5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C83-85C2-4F88-B622-1317ED5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6D8-7A57-4527-A520-79780B09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F09-CFA5-4475-9359-B1F56DFC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DAA6-8FD7-442D-9CFE-70FED824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1DA9-9C02-45DE-9B66-EAAF23EB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D890-F48C-46D6-B388-F57985B8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896B-0413-4180-AE74-71D21112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B236-2E2D-4760-9117-E1047890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0B96-84D7-41F8-98BC-C45DE9FA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926E-0FD5-49D5-9674-AF7B51F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62A-EC33-4A9D-94EE-9420F3B6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2D20-D463-476F-9F39-C6DD60E9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9D84-906F-457F-A4A9-4BC1B326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1AC8-3A90-4090-A74F-247C5E3F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353F-A59B-4A5F-8DA7-FF66AFFD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FDC8-C917-492F-8CB2-69AA1599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10E-B7E9-43E9-82C4-B4092690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0B5-9F6A-4891-A5E7-F1DD985A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76D-7F70-4E6D-BE60-12BD0997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C00-40E7-4DB8-BC6E-550BE9F1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B85-18F5-4B44-B0B5-0DCD18DB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9F1-2F7A-4F5A-9C0A-21EC4C6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662-3A8B-46C4-89CF-53EB917B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69CD-BC9A-4847-96E5-61D591AEADD4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4E0A-8BD4-45A6-BF07-9E61440A3C33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hor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3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9134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40872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850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7676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72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26436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98508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0108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70200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1940040"/>
            <a:ext cx="7270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769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48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1280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84036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72723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2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472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0:31Z</dcterms:modified>
  <cp:revision>11</cp:revision>
  <dc:subject/>
  <dc:title>Slide 1</dc:title>
</cp:coreProperties>
</file>