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123-AB8F-4862-9E67-6A42541A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58A-6C14-4D9D-BD1C-FC978E87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6DA-6824-43B9-BB1F-8B536DC9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E12-0BD7-4CD1-94CD-04F16886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12A1-CF1D-4AA6-BCC7-EF018B59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CDA5-CAC0-4EE2-919A-6EE975FD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A27E-AAF5-4FFC-BC2F-1282E8CF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FF3A-FE74-4C09-AEED-A512BE6A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0FBE-0606-4ACB-A8F8-A4AB7CA7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F9F8-C75B-42EF-98BB-171D3FA7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E0A8-B7BE-4A0A-A3A5-E01BF8C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5E5-B7AE-4414-B10F-37C75A93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A18C-C8BC-4BDD-9D99-4024934F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579A-1251-4DC7-9844-9CA7CC8C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FF78-253B-4A9B-BC67-3DB82ACE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28DC-AD24-4E8E-A908-E220D585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93A8-0286-4EA7-8219-3EAC94B6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859-1134-42AD-9331-438C13A1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C20-1C3E-4045-96E6-817A39B7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384-ED76-4C18-BC8A-C45E06EB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B6E-EE47-4A0E-BC11-F6A116B4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2D2-BF3D-4FF1-A5BB-22E2605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8D9-193D-41A7-8B6C-5EA48A6B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1B8-9BE0-4E79-9D6F-5BF254A5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F63-E15E-4539-8C50-49C011FCA412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CBA1-B403-4B1C-9177-2BDDDAB45A04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1200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91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3374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6247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9120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9850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200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7128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2010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2658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7201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2913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87232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7128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201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129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0563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624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0563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3:31Z</dcterms:modified>
  <cp:revision>15</cp:revision>
  <dc:subject/>
  <dc:title>Slide 1</dc:title>
</cp:coreProperties>
</file>