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FAC-E004-4B9D-9BE0-4023019C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83F-0D35-40CA-9424-B4E5D2E1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43B-1BEE-400D-BEB3-591CEE51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B62-4DE1-470F-92B1-A66744E2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43D0-FD13-4630-B917-F63BDBA0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CDC8-1DBB-415E-99A5-8AE3C196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65C3-4B17-402E-8905-2A4BE2DC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56B8-548F-4433-8093-349E7A58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D12E-8CBB-4F8B-B719-BA654E87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7781-FB4C-4638-A9E9-8DCB983F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BFC6-F57B-4DED-B480-7BE2F21D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7CC-5CA0-43E5-80AC-CBE5D01B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9434-AE82-44A5-A144-5E95CD7A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E5F4-3A13-44A8-BFA7-39B3A584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8BF8-ABA8-4540-A767-1CFBEE7F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A0C7-D611-4772-BD86-8A100F24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04A3-FD07-44BE-AD23-2393AE3D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876-1B42-463E-958F-1B44485B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AFF-0D26-4777-9868-9EAF8287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F93-51F5-442E-BDA8-C380276E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782-594F-4EA2-AD8E-58850BDF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E74-C16C-46DB-AE2C-75CB183D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5D5-4F76-474C-AFF3-42206805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BC3-F5DC-450F-8922-2E4E8E3D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01F4-9DE6-4936-A7F2-CBDD271AA8CA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88C6-A340-49AC-B64E-52F482CAEA2C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Iron &amp; 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7672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6247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1280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53280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6247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90400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65534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5450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6048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5436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256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575964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6050160" cy="24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8196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5184720" cy="16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46400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688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96872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626436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3374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64818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82436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8327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4375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532908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5943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61672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184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6898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40000" y="1706400"/>
            <a:ext cx="50911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484360" y="1798560"/>
            <a:ext cx="48657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6048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63640" y="2416320"/>
            <a:ext cx="58626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74660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64213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619272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6978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619272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6247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61214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0:04Z</dcterms:modified>
  <cp:revision>12</cp:revision>
  <dc:subject/>
  <dc:title>Slide 1</dc:title>
</cp:coreProperties>
</file>