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C2D-7443-4978-8C4A-3BAFE14E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BC2-9F49-4B14-AB65-5855087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0E1-3A07-4954-B098-E5F226C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622-9F13-49EE-928A-DE9D64B0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684-7F24-45B4-B452-67060938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657-1ECC-4DB5-8042-7A805F05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ECB2-7858-402C-BC10-8EC34332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1D6-DD42-4125-B915-F842ED7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3BEB-7849-4DB4-90A3-FAC28843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621-D8C4-4DDC-A143-55E1A583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1AF1-68ED-48A7-9545-D0803CE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AB7-0342-4723-9599-0F5DE5B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8D61-7331-4175-B189-F3BD888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FF6B-6AA3-48DC-8A4B-7235FBE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E02-9114-4975-AC24-C0E4F0B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A54-DF41-485D-B473-FB5899AE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49AD-769D-4BCE-8515-E4A54FE8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793-D799-4243-8855-3DFEB9D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6CE-5B8D-4BFD-8443-4DA7D8EE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88C-6F35-446A-A2BF-7D12E98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F6E-4B35-49B4-BF2A-1BD2B15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1F2-01EF-4BA5-BC9A-EFE9580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A49-B2F8-4E6B-B3C4-42738474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2E-8A1B-493A-8BAC-EDE739A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A8B-C2F8-4F30-839D-47020E9E3CC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8C1-5F31-4596-A566-CBE892A72A8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pecial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96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734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1930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77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624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752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374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897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400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969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616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36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6163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8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329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25636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580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24000" y="1666800"/>
            <a:ext cx="5473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2752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763640"/>
            <a:ext cx="553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opi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628640"/>
          <a:ext cx="6840720" cy="475308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2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mission Syste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ype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magnetic Switch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uret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per Mo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ss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ifugal Pum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Gen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b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tovoltic C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brid Eng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lerome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ine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rling Eng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1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049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84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257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5:58Z</dcterms:modified>
  <cp:revision>12</cp:revision>
  <dc:subject/>
  <dc:title>Slide 1</dc:title>
</cp:coreProperties>
</file>