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E01-5D01-4F8C-8FC0-2D1BDB61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F0D-02D0-48D5-A1A9-2844A0D7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2F5-7D14-4093-A87F-9CDEC3E6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471-48A6-48D7-8633-F9CBCC3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2A49-75C7-4EDE-B905-13929CB6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94D-20D8-49A6-A31B-2E7AA50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83C-C5C0-41AA-9EF1-9B25DF3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A2A2-F60D-4BCF-904B-39FE45D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E0C7-02C6-4F01-9530-44D5ADFF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C85-1B19-4B50-95B7-888B527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9D6-EC11-4AB4-84D6-D0630B0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0FE-100F-4F6D-9055-D3FABA3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F04-3F64-4394-BC02-C328D15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77C-9C13-4211-8743-361123E1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FDE4-D847-4CE4-85F8-1DF62BB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F7B7-C30A-4CC4-A8C8-50ADAFFB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E15-9CEE-479A-8E02-08FDA456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D60-7FCE-4F5D-AB95-5A20FF49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5C4-2EAD-441E-8720-C2D3641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3B8-26AB-4632-8D60-0CD6EF2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685-7AE8-4E10-9625-A0D86DE6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4EE-606A-4A3B-81C7-AC4F798A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6D7-267A-4282-843B-2A5CBDF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CA2-3041-492B-80B4-6D59A65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F0EB-9B97-4931-9A7E-1FF86273D8F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EF7-F82E-4E60-B42F-2E0858ECE02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264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26436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80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6050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759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54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761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905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759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61672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5530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2658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20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88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00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84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532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3374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832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480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908000"/>
            <a:ext cx="53546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110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64594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0864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1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8000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624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832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98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977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6:08Z</dcterms:modified>
  <cp:revision>16</cp:revision>
  <dc:subject/>
  <dc:title>Slide 1</dc:title>
</cp:coreProperties>
</file>