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A14-1DCC-41C5-AFFD-AE4EFC9B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A16-9AD4-41B0-979C-1CE102BB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E38-2096-458D-9574-6A2682CB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8C7-5793-4841-9695-7FC6F512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8FBF-9E34-4BEB-B4F9-11F2227A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F800-8A47-4E52-8120-BAAB730B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B798-BB8D-4DEE-B57F-0EA3EB38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77BB-7F47-4FA1-B0C5-72D020D2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9729-82CD-4AAA-AD43-19581A0C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CD42-A2DF-4E41-8852-8EC8BBAF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ED4C-D8CA-44E9-A1A9-3C0DD175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267-3C1E-4C91-94B0-76B92A85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381C-E46F-4C15-81E7-69B04F76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0AB9-3BCC-4974-B193-A40A9918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CA3D-D5F6-442C-8FD1-BD41A03B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600D-B93E-455C-B8AF-9F9D63F8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CB3C-9682-4D22-B7A6-0DDE4A58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059-38F0-4602-8A64-78C82F63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63E-75EB-49A4-8CC5-07B33336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7D9-D93D-4CE2-B306-DDE931E1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345-07BC-44C7-9354-0F410A20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0CE-55C9-4C31-9673-3AF51CE7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F8D-5BB4-4EB1-BF55-11598D96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F1F-B3EB-4620-945B-5A3053F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1EAE-6EDF-4D1C-BA16-BCEFFE566FF7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69BD-59BA-40A4-B8EC-05408D350E18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Thermal Equilibrium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4007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840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4723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59058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761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403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4854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8323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087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5516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60483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6818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5834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681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38163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6963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040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7280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049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03280" y="2206800"/>
            <a:ext cx="66945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0374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65134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68360" y="2230560"/>
            <a:ext cx="52246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92164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0563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6247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480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904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7596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2:13Z</dcterms:modified>
  <cp:revision>16</cp:revision>
  <dc:subject/>
  <dc:title>Slide 1</dc:title>
</cp:coreProperties>
</file>