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A34-E8DF-47A1-87A8-C68A7016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F77-58DB-4530-8DFE-686410A3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FB5-0DD8-47B7-B221-4925F945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685-D278-4111-A8C4-699B8E59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B1D8-A3B5-4B09-BE7A-65F47E32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9D0B-6448-49CE-AD58-371E79D7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6594-D56F-4488-9B51-23E2D2B3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584E-11B2-4FF9-9028-E281392B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AF58-9340-4402-AE40-93F3848C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A678-BFAA-49F1-9084-CD5E43E7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6A4B-ECC1-47A0-96DF-AFC86B70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0A6-94D8-430E-804E-1E870472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99EF-1FCD-4571-A3D8-D7087354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CDCD-9CE2-4DCE-8C86-031D1773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6556-1017-4543-BF6F-81C33117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84FC-5F9D-46A6-B463-69F50059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3823-F6F1-4F22-B5B8-F63EC716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3F71-ACD3-48BE-AA70-6BB4F2B7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A2A-650F-4489-A3EC-29098BC7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CF28-4BCB-4465-81A1-2CD6EC12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AD1-E469-45AF-9524-57417450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C26-0781-49AC-83CA-4D6BA7B8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D8A-79AA-41D1-86C9-814976DB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425-42A5-42EE-BD41-5DC6FE31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1D3D-E5CC-4A0F-AEFC-EC11DF41C8E8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B93E-FC6A-42A4-A952-83AC12B6DE1B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Mechanisms &amp; Electr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6247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83272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6048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65530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64803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33564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4087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604836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68980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97672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532944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18508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25636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7380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55436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55436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90544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61672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9676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473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738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25636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7380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32764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00720" cy="46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4087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340000" y="1792440"/>
            <a:ext cx="492768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92360" y="2050920"/>
            <a:ext cx="6183360" cy="42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557532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5023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32764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4007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9770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9120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84036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9850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39:46Z</dcterms:modified>
  <cp:revision>18</cp:revision>
  <dc:subject/>
  <dc:title>Slide 1</dc:title>
</cp:coreProperties>
</file>