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CB3-BAB2-4C77-8F78-BAA68ACA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BFC-25A6-4BA3-B176-1D2F82C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3BD-0CBA-4D8D-8AA1-F01128BF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139-68F2-4A03-9906-57DB4D5A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490-FFB3-495E-BFCF-68CA98E7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BA1-4592-4DD1-9C2D-FE4526C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A7A-8127-4AE3-89D7-C2522451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1B46-A008-41AF-AAD4-37C1BCF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0615-6090-4D5A-BB16-DF253DB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FBAD-36E7-4444-AD09-199CFBE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9230-4CC3-431F-82B8-06D0AC24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8BE-38ED-4471-A735-5480D85C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3378-5130-4B66-948B-D31F83EA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FAC-942D-4A1F-8B2C-715AC76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703E-2F86-454A-82F8-68C8946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DB3E-0EEB-49E9-A585-0621923A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C562-10DC-4DBF-A1C2-BD81FD24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175-6397-41FD-B4EB-A5BAA73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15C-A8C7-47D9-8211-F5B5A89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100-F4C7-4DA5-B216-EB22BDCD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303-911A-4C46-ADB3-E6FDF2A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7BB-685F-423D-8251-0A71207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796-9E9A-4933-933E-FA6700C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F10-1A87-4F2B-8795-39707C8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5493-F4DD-45CD-A8A6-8089A583593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CA2-7B96-4F0D-ADF0-6473D1E3081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aterials Testing &amp; 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3680" y="2311560"/>
            <a:ext cx="5591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8080" y="2263680"/>
            <a:ext cx="5562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73520" y="2268360"/>
            <a:ext cx="4371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2360" y="1844640"/>
            <a:ext cx="439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92520" y="2401920"/>
            <a:ext cx="4533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59160" y="2506680"/>
            <a:ext cx="5200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63880" y="2440080"/>
            <a:ext cx="41911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8160" y="2111400"/>
            <a:ext cx="356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1920960"/>
            <a:ext cx="4610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2920" y="2073240"/>
            <a:ext cx="515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4200" y="2082960"/>
            <a:ext cx="5010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9400" y="3316320"/>
            <a:ext cx="4419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47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39880" y="3463920"/>
            <a:ext cx="4838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4640" y="1973160"/>
            <a:ext cx="4629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16120" y="3021120"/>
            <a:ext cx="4886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3160" y="184464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82960" y="3511440"/>
            <a:ext cx="41529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68640" y="1844640"/>
            <a:ext cx="578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0200" y="3425760"/>
            <a:ext cx="403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2643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78240" y="2035080"/>
            <a:ext cx="516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616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2193840"/>
            <a:ext cx="5256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2139840"/>
            <a:ext cx="62150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65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107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2511360"/>
            <a:ext cx="56563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38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92440" y="3106800"/>
            <a:ext cx="4734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1320" y="2344680"/>
            <a:ext cx="6095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82960" y="2544840"/>
            <a:ext cx="5952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16240" y="2449440"/>
            <a:ext cx="5486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16240" y="2373480"/>
            <a:ext cx="5486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9360" y="2492280"/>
            <a:ext cx="541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8:20Z</dcterms:modified>
  <cp:revision>14</cp:revision>
  <dc:subject/>
  <dc:title>Slide 1</dc:title>
</cp:coreProperties>
</file>