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1CD-4693-426C-9C3B-4C101E75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783-FC05-4A44-A656-281C54E2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671-1743-453E-A52C-908E614C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789-988F-4D28-9EAF-CFA6379F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8D94-24AD-4358-94EA-401F45F2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F838-D8CD-4E67-811A-D8ADDE32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1C15-AF4C-42EE-BF37-ACDAF38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1BC-DF01-4EFA-8CA7-9CD2A84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C999-4095-4CC1-9B25-0762C7AB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53DF-4101-4E33-936E-6BAD651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02B4-F983-47AD-A596-7101D5E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4E5-78C3-4049-ADEF-B7491D9C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8140-1E2A-46AD-961F-8F16114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29AB-FF6E-4985-8BF2-A7D2C88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6B1D-9A5F-4EA7-8751-D17EEBC2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2B61-B4E4-47B9-864F-49D7D96A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0EB-A4A5-449E-808D-557BC6DD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159-78A6-429A-BB1C-C003040E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C57-7618-4F5B-85F2-7F19E21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F0D-275D-4A6B-AF59-2AFC7FF6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519-3420-4E1D-AAB0-5FB4087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029-DA08-40D7-9E2C-8472867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01F-6A3E-460B-B882-D4A1197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1FF-9E24-49A0-90B1-D1E6843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0CF8-584C-4B6C-839C-B0693C3E5839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5CA-064A-4A21-83D6-88EF1E8F3B4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7128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76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985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40872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648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761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6193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88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400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3294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6974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472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45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3370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0483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832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60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6880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32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7610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33564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5516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9594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686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0920" y="2122560"/>
            <a:ext cx="55612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7625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6140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936800"/>
            <a:ext cx="550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9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9850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98328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769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4:17Z</dcterms:modified>
  <cp:revision>15</cp:revision>
  <dc:subject/>
  <dc:title>Slide 1</dc:title>
</cp:coreProperties>
</file>