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D58-C76E-4F79-9A80-FA56733A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D64-866D-4048-8E07-D696308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598-19CB-48AC-ADF4-DB9500A1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DB0-026A-4C45-A187-A86EDA09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EFDC-FCBB-44A0-BD18-0CCC53C6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96F9-BDDB-42B3-9348-94B239AB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D4F1-689C-4305-A93E-EBE01670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71D-120B-4C8E-BC64-517413C6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A9EE-62C3-4A50-806A-77797714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500A-2CFD-4E55-9CA2-8D89DB5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19EA-D23E-435B-8F8B-A052DF6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800-428F-4189-8606-A227EE5A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312F-3AC6-45D8-8085-9C366696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AE27-3184-4F63-B330-CCC072F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B62-54F8-4C65-BC4C-A4CC0D9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8CAD-1FB9-4870-8813-FAB90F23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256B-A978-4841-A6D5-C18C0E84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455-1E84-49C0-B1F5-B362B657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63E-B6A5-4AF4-8A61-48592F15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8A1-CA34-4916-91A2-DCF5FAF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697-C6A6-40A7-9548-4701FF58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ED6-BE1A-4F1A-ACAC-E0EAB40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695-C238-4C4F-9683-A65D60AA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737-9F87-4FE7-8912-79BAA2D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C8C9-8EEE-4C6B-B944-FCF1D59C1AFF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D13-0449-486A-A87D-1A8974EA2F6F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utting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24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5516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0872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68836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6978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214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40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767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2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76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9054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90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60483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9770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0483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048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192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4720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97672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0872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6408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977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3374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93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90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905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3529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577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6912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1214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3435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23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9306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71280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264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633564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7:59Z</dcterms:modified>
  <cp:revision>19</cp:revision>
  <dc:subject/>
  <dc:title>Slide 1</dc:title>
</cp:coreProperties>
</file>