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FBE-31DE-4D3A-BCB6-399D5C0B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E71-0162-4446-BEF3-F079D49C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4E7-DC5E-4844-BE21-31B74BDF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823-7393-4624-9B78-EA6A7361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6709-A731-4EFE-A322-704B28DD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DE1B-AAD6-4A46-B0A3-B36D38B2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2E21-858E-43A3-A61A-31FB0A49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25D6-FBCB-481D-9E1A-516D1800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FDB8-4833-47E9-9F94-B8DE3E88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06C9-1CF1-4073-9730-C7C322B1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99A-09EE-420F-A64A-C0DF17F5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AA3-A87A-427F-B372-1283AE97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B6B5-AB74-4C95-A85F-5739B94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D4A9-4360-42EC-BAE0-DAF768CD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A64-D40A-4746-95C2-E9C2A089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486E-5B61-4AE6-BDCC-8DF64ACE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7CEC-398B-4274-8655-BE14DA3A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F4D-84A2-4F18-9CCD-AC76F028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0AC-3E9D-4A7A-AF82-6F0B549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66F-7F9B-4C09-A164-425D3B85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AC3-23EC-40E3-A720-3CDA1EDF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552-A0CE-4D20-BDE6-1401904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A5D-AC45-4418-B703-62E1FE7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4A4-C06F-4FC6-806A-72EAE44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E7FB-9AFE-47E2-B93B-9EFF459C475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9926-8AEC-4DCC-BB1D-248C13090B39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hor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62658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5516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2563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6121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5454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9058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905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60483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56894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543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61214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47527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3992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977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83416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761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6163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47236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688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761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5436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6193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5623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715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63370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7056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7672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761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62472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769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14:07Z</dcterms:modified>
  <cp:revision>11</cp:revision>
  <dc:subject/>
  <dc:title>Slide 1</dc:title>
</cp:coreProperties>
</file>